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92323-B80B-4077-9DBA-C93C088A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B8232-A52F-467C-A0A4-3DB5E967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43014-134E-461D-9E8D-E4DB64EC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09BE8-ECBB-4602-9D8D-A55A01F5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235BE-DD46-4B27-B96E-B9DD6531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EC155-277C-434F-B902-8F428676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8E262-20DB-42FD-9677-7FEFDBCB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73074-F02A-47DD-A2B7-FCDC4877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9E9CA-D6A4-43D4-A413-B8E2CC0A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5A879-D92C-4922-911F-2DB40EAA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3955A-B3D4-4445-8D0F-2618E33B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437D7-E4F3-4210-B776-A4C2154B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C7DAE-159B-4D10-A206-D3C23984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45FEB-0EF4-47B7-AE9D-C5F920A1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28329-8DD3-477B-9767-9F58BD11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06453-011A-447F-A5B3-C165E5BE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EE89B-7F59-4497-96A1-41B6839D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83EE0-7A01-49D2-9FD5-0E4D2852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72480-2E6C-49F1-AD08-0A3ADD44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43819-21C3-4744-9406-D9DE0031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BA8A3-3401-413A-A9F8-3C296F41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A51EA-B8CA-43BC-96EE-81B6E225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226E4-F87E-4D8C-A8F2-153E402D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23582-9BC9-47AF-8CED-21A6206B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05BD5-EEF5-4C4D-82A6-A305AD99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08B63-35A5-4285-8D06-02AE52FA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EA88E-BD0B-42F6-B22D-2DB60462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FF4F1-2941-4F6F-B60F-B8088968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409C1-BF2B-4894-85AA-DAE56493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87165-BF11-493E-841E-B160E097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2B8-0745-44AA-B8BC-D053DC76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B0874-77D7-4316-9252-A43A05B6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A69E4-1E7C-4E13-8B8A-EFE115C9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DAFCC-F8ED-4593-87F5-B3F72B21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85CE9-839B-4873-8F39-3C0013E5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26817-C343-4C7A-B7B3-815E7F15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160A6-39B1-4CE0-987F-CF1BCECB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EFE3E-D3C6-4F2F-A581-7CA0A84B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007DE-F5C6-413D-A342-AA2FA88D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DC2E2-B28E-4D97-8E18-31090E81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F3746-524B-4487-91F3-BCA4FE25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AD5F-9F24-4E52-95A5-39ACBFD4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1AE51-8F26-45E4-8B4B-B7A53528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FEBCA-B886-44C0-B3DA-44DB2386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E95FB-B362-44B7-A2DE-63935304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6017F-328E-4A4A-BF2A-9FBE9129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B8D98-0243-4462-8407-D1E4C8A2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D0C2-6E64-44FA-B418-D7B355AE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8E7B-0A89-4CDE-9E2D-E899C9A7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F7A-2E19-4FE7-A081-926D92F7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CED8-3C35-4CEC-A24B-4E14397E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00D2-502B-4D81-B63F-A0AFC0B9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95F-85AD-435E-ADAC-61A18DDC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765C-BAF1-4761-B301-21F815B5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8A0-A63A-4BCA-9829-0D0F4C7E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5939-372E-4092-BAD2-550C1A06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59C-5548-4A35-AAB3-1A60CEDC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6021-832E-4EC0-802E-CD9E91BC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C597-5CB5-404D-B625-ED72149E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24BA-D508-4884-895F-E22F36FA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4795-3810-486D-8154-5E048C47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7EAB-EDA8-4A08-A272-9A482862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708E-F4E6-4CA2-82E3-67E0EBF9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014F-67C6-4EAA-8E2A-A6A9478A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D262-D12E-4ABD-A6DC-DE783AAF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E8BF-118E-4958-B940-F23B2F06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CBE4-EFA0-4DCE-901E-FF32A1FB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7E5C-720C-444C-B7BB-E119B4F3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1B7D-55B5-421B-91DB-5FD3D3ED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2F513-9A97-47CC-8D3F-E189685F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330EC-0EB8-4A93-8F96-E6269337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7537C-88B3-4D7C-AF51-18C2C1D5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43D9D-CFE5-4184-8202-6175116C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66D1B-637D-43DA-9EED-5AC18E49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679A3-F974-4CBC-9928-AD63EA85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738A9-CBB7-474C-9551-22665E5A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1D7D4-1C73-46E8-BBBC-4529B2DA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62FA3-5B8A-4776-8DC4-C2E2389C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2860E-6066-449B-BAC6-823091FE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B15FA-EAE2-456E-A061-EA94188A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F68D2-634B-48A5-A827-E9413591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A745D-6B7E-4EAB-8CD7-F3531227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D45F7-F752-4F13-B2D7-95A00A7E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823B1-96DD-4E1E-B421-A7374608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EAE71-4C4F-4B51-8802-A5104948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898E8-757D-47E7-B1E5-320D2888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5FDA0-6349-4D4C-9DCD-D45F4BD0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924EF-2917-4631-AF49-2AAC1A1B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93E37-B45A-49B7-9D57-7FED8ED9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5F533-535F-425C-81D3-2338CFBB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368B0-30B0-4ECA-8C50-FA48F3BE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122BA-6074-43E6-8052-FA8C3805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A9879-7A30-4FAD-8204-864CCC28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77517-3978-40EB-8466-CC0C7288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EFB2C-6138-481D-A9C1-174B424C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F10D6-58F0-4AD3-87DA-0F378FA8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91013-CE81-4280-9745-F334BE51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DEA76-D00E-4449-A73D-2C270892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2F19B-7395-4EE5-91D6-4A284EF7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7BE4B-5229-44F7-85DD-4A5E9B0F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14DD0-E09B-4584-9642-F5C8B3E8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30F64-C69B-41C4-9FA9-8C2933A3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D3678-2F66-4636-AF56-0D1DB48F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738CD-AB01-4A72-A815-E92B07F1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AE018-3F9B-4DCC-9B59-E17D73AD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D5262-FBC7-4A77-9E9C-4F398001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6A3B0-B9BA-4A70-B920-BF4A7459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A8640-81C2-48E6-B7CF-9206745C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A32EE-F4DE-404A-A65E-FF15B285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4CC05-C272-480E-BC00-C3E08CB3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542D0-220E-4302-A0B9-1C4E93BB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B1B96-9297-4FB6-870C-ED151BAE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6553A-715B-4C1A-A88B-1EBA72B5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40502-E24C-41C9-9B39-2D877B5C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D72A6-7A4F-4EA2-A0E0-2ABD76CB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FAF4B-A761-44B6-9CB2-67A58C23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2CA39-8E59-4721-A914-A88F85C0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123AA-3450-40D2-9539-B5E1AD6C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1ACF4-3A1A-43C6-9B3C-33650383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1BE4C-1551-4A14-915D-4D7B5B60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2C2F4-DFCC-41F9-B93F-85F68ACA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F9B8C-1C6A-4B2D-A0F4-A2E358ED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BF83B-AB1E-47A8-A389-D5FD1460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C3D18-3EFA-4A96-B8FC-C6C1C0DA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9FFB7-9AF9-4FD0-BDD4-BC9FD249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F397D-3F22-4ACB-A888-E75976CF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A31A5-859A-4046-A7A3-751A5467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70653-31AC-47BA-84A6-3AB4B841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11482-42EA-46A4-97ED-D5DB8F31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BDF0C-848A-4AEA-8D01-CA0E7C6D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F1C65-7433-435A-8343-3F1735F4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6A35D-9AC5-47E4-80D1-A3354ECC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E06A-9A15-41B1-936C-1B2DDCA58C4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08F9-936C-447C-9CD3-6722208086D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043B-D745-4909-9907-7EC34236A59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1F21-7E73-49FD-B9E9-B674729F040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B5AC-F018-4935-BBCD-25F73029112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81BE-7AE0-4FBC-8443-41D9F2F69E7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70D5-3A52-4971-A559-EA37FBF0A09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B38D-1CCC-4C89-9A74-0E9F047A6B5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FC20-4CC8-4EE9-95A1-6269019EE90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47DA-2990-4527-B0F2-6773FBBC185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0008-7CC9-4CAC-B93B-7FC460E0EEC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TCWS1.jpg"/>
          <p:cNvPicPr/>
          <p:nvPr/>
        </p:nvPicPr>
        <p:blipFill>
          <a:blip r:embed="rId1"/>
          <a:stretch/>
        </p:blipFill>
        <p:spPr>
          <a:xfrm>
            <a:off x="1471680" y="536400"/>
            <a:ext cx="62388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TCWS2.jpg"/>
          <p:cNvPicPr/>
          <p:nvPr/>
        </p:nvPicPr>
        <p:blipFill>
          <a:blip r:embed="rId1"/>
          <a:stretch/>
        </p:blipFill>
        <p:spPr>
          <a:xfrm>
            <a:off x="1428840" y="536400"/>
            <a:ext cx="6305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1"/>
          <a:stretch/>
        </p:blipFill>
        <p:spPr>
          <a:xfrm>
            <a:off x="1536840" y="536400"/>
            <a:ext cx="61070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577880" y="536400"/>
            <a:ext cx="60264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0:25:34Z</dcterms:created>
  <dc:creator>Mary Parker</dc:creator>
  <dc:description/>
  <dc:language>en-US</dc:language>
  <cp:lastModifiedBy>Mary Parker</cp:lastModifiedBy>
  <dcterms:modified xsi:type="dcterms:W3CDTF">2012-01-16T10:41:24Z</dcterms:modified>
  <cp:revision>3</cp:revision>
  <dc:subject/>
  <dc:title>PowerPoint Presentation</dc:title>
</cp:coreProperties>
</file>