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9C8B7-5322-45A1-923B-A627E0CA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69317-09D3-422F-A459-E0AEC853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7248D-2ABD-4289-827F-62390D3A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85707-1C49-4010-A451-3470B7D8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83B3D-7F3B-431E-B889-E1194B5F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D9B51-91DC-4344-821F-BFCF8198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61137-910A-4B3C-A52E-9E5A44FC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044A0-D4F9-409E-97F7-3953E829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AF0FE-E5CD-42BB-9739-B60F83D6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F7C3F-2A66-4FCB-9F6F-F12BBC2CB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5C20D-F62C-465A-8679-D898CF1F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3EABC-D9B1-4F35-BC99-C55866C4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CCF2F-414B-4FE2-AC4C-34E97344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578FA-D0CA-4E8D-98C4-3F876F8B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9A5D5-0A42-4A69-BA66-34D6C8E6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FC896-439D-41BA-98BD-D9EE745A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9AAAA-A093-40FC-8544-4AE7B942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81B66-9F70-4620-B006-610198B5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8F6CA-801B-4A6F-9516-9CB91B24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1FB68-4B50-4F26-B962-BF01227E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61E8B-AEB2-4CD0-9B59-E6687589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5C515-C780-4986-B135-F25D78C2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6AC03-2857-4382-AAFB-1D4A8D94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8ED11-2EEE-4CAC-8EFF-9F941B09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A9947-6C54-4B01-BB28-1D72DA8C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8D1C2-4351-459B-B8A1-2E7F3068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D65B6-1BB8-4DC4-B71A-F264BCC0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BA36B-496D-4CD6-B013-C162CE5E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A7B34-FA8C-4351-ABE5-E008FC05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D1C93-FF41-41E6-B0E7-2EBC7C62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8884-A279-4419-B85C-8861F1FC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4F774-6EF0-483C-924B-6FEB92D0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A75FB-F0E9-4BEE-BC7C-A1351781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01B32-E50F-4614-BCE2-8519D1C6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01D13-756B-4DB3-8902-DCF7E5F9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CC78E-3F6F-48C4-9043-9C813156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8480F-AE3B-4161-B38B-CAA5BC90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797E6-080B-4825-BDCE-12B06814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5E4E3-A62D-4751-B1BC-86F2AF80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BD084-24AE-4453-84F9-6D4765FE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96E0C-07B5-4264-AB1D-A527C04D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D2A7-33F7-4076-A1DF-7455CDA5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3DF51-45DD-4306-AB86-99E488AB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F7980-D3C4-4B48-913D-5CA2785D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6D251-30EE-4B25-88F1-0C5CD45A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CDDC1-15D3-415D-B21C-0EBD0E73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79768-221D-48F2-B1E5-CFB46518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BC7-E82C-4FE5-887E-AC808D31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9AA1-2B86-490B-83E9-F496D140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6EF8-AD59-4C9F-A186-71F5355A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6F2D-EC59-49EA-AFE2-62F98981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D068-BD50-4390-8C23-3F0F1318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6A17-94DB-41ED-8C02-F45D9F66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967B-1DB1-438F-80C8-836BAC37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B8CB-A61C-4745-8358-5D7C436E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F443-BCD8-49FA-9D9D-0175B6C2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290D-6029-4399-9125-E3068165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EFC3-E3F6-406A-A038-53A0FBB4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D9D3-85BA-4831-8A45-993C667D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C333-A828-4439-B42D-C31A52A3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C1BC-0A9F-43AE-9C6F-B79D31F7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2125-2027-47C6-9D24-3208F3DF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D6DE-0F72-46C3-AB38-2C7A4789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8B81-7A90-4B60-A2A6-54C08C88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297B-87A3-4DEC-8408-9B43ED2E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3217-DD71-4ABA-8BEF-2B5E0612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F842-481C-45D9-B7A7-226844FC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D641-4957-4C3C-943A-C1D1BC6E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9B2E-5B72-4DF1-A1D4-D64E4F21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530BB-6FE1-456C-AE37-D18A0051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F13DC-6785-4B38-91EF-A7AE097B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EEDD1-B9AE-409A-9C02-2EAB70E0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69BAB-8CF2-4903-955E-AE016F70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E7F94-7748-4D44-A395-8FFDE72E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1783A-2B89-4CB0-B636-41A319A0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9A742-F0EF-4998-BAE9-13E2F2A3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0F33C-66B2-45E2-95E8-0E5BA065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5D29C-0194-46E1-8F0D-3FE1AA10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03D3E-CB4A-4616-89E9-DCB65735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D2CD5-70EC-4BC5-BECD-EB1B14A9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9F6D1-CA4B-4832-8381-1C59C57B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B6D6A-D9C6-4E3A-9328-521D04A8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1226D-35BA-43F2-BD96-005DB9FA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FD3AD-1169-4C52-8E09-771FD73C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5C639-A7E6-4F10-8977-80EF20C4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B2DB5-9F80-4595-BECF-0FE1DA09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735DE-66AD-46A4-9F49-58585DA7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2AE75-AC67-4820-9A2B-DEFCAADE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3819E-E504-4991-BF23-38C71385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54E49-DFBA-4774-B3F8-DFC5A401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39C81-F3EE-4E38-90B8-1BC5EA8B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177B4-9926-4E3B-B064-FBE019DE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41350-A862-4BE9-97C5-E66BDB5E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762EA-6FD7-445F-87F2-B0363FC1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B3CB9-0606-4822-A188-5D3DFD26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8F21E-F1A3-44A4-88C7-8A9004EB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F57D2-1892-4E38-A127-021C09D7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BEAB5-1666-4949-BEF4-E178B818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F6A98-9FAD-4EC6-AE5B-6709F538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3D554-B46E-4057-8997-001EE36C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A28F4-A889-4487-B20F-0511A470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E7370-E58F-4207-8A88-172ABE2A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77E51-2E96-473F-BE82-3FD88BDC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4124A-5225-4BCE-A94D-75E4DC26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3C167-325D-4B38-8C57-2E4A8B0A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448E4-4B9C-4461-9F83-EEEC89CD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32493-9F55-4DA4-A224-90F472AC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94089-6B6B-4415-8F9F-1CDD1C6C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AA1C0-7707-4E5B-928F-9640E645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447A0-ACD6-461D-B332-F898DACD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918EA-38C1-4ED4-B5DA-31932456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9607A-5531-4DAB-9D5F-426F448C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48D8A-2967-4CCC-B2DC-52892A63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F9E9E-7ABE-494E-8DBD-E684997C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7BE10-2D84-4375-9258-79C84512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D3176-E94F-43DF-A51D-B1CF83C1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D5361-D81F-4B59-B5AC-CE9C36F3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DD195-BB69-434C-AC17-39F7D74F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17E50-2ABB-4484-8B0B-49AE4554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CF471-99AB-4F25-8060-384C1ECC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4BB0F-FFB2-45D9-980B-A00CCA1B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B3F21-D737-486A-B11E-4219D6C4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0BD5B-53B6-4663-A82E-2120559C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C3024-484F-42C0-B38C-A9531435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87557-0F23-4788-94B0-D3C08851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96E82-EDAD-46AA-B912-182A55FA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77BE9-D580-465D-BEB9-40733FAE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B7F6A-1D86-4CE6-A20D-5BEB1784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B96F2-F765-479C-8AE5-ECD8294A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2D706-DD4C-4BC9-BFE1-ACEF15DE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B79C7-0977-4CB2-B0AF-C2DE1BBE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B744D-C2AB-4026-80A9-6138E87C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ED6A-B7E9-4C1E-81D8-C223B52773F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1E20-621C-4E27-8B27-A44012439A4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4912-2C62-47B8-AABC-CC9EC5EAA8E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89B8-76E7-4A18-963E-18BCF42E269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F5B5-513B-465A-B2B4-ED622306D3E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9902-B0C9-441D-AC82-BACE6BDC49B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EC1F-E7AF-42BA-B44B-DB1485622EF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B07D-D7CD-47AD-B0E2-871C8EABA05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884A-9601-4EB9-925F-6AE8B7EEA6D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71B8-A3C2-472D-86A6-01E3CAA0708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B92A-F58D-4DEF-A74D-9E3CA72CDEB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1844640"/>
            <a:ext cx="7712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ithin the last 30 years the world has changed dra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change has conseq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‘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Insanity’: “Doing the same thing over and over again expecting different results”</a:t>
            </a:r>
            <a:r>
              <a:rPr b="1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(Albert Einst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611280" y="1844640"/>
            <a:ext cx="76406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observes the culture surrounding him (v 16, 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preaches in a different way                           for a different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Our God is Lord of the ‘different’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46Z</dcterms:modified>
  <cp:revision>8</cp:revision>
  <dc:subject/>
  <dc:title>PowerPoint Presentation</dc:title>
</cp:coreProperties>
</file>