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0584F-62B9-42AB-B08D-DA5A3C85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99D6D-D1D9-45AD-8FDD-15513BC5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5C3C4-2F0A-470A-AC0B-EE51B5F5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FE428-6355-4C63-BB3B-FEAD2016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8547F-F06B-4945-9386-2683AF77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67DED-9FD9-4571-992B-5CEE409C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210A9-1E4D-4994-BDBE-63A25505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B5FE6-1F35-4261-958B-B31DE766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AE8D3-E807-4136-9AA8-DD190697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C37C4-6364-4304-A9D8-7CE0167B6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6864B-0912-45DA-85E6-51B364C8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103C3-E81B-4C54-A565-E6D5805F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BD314-BF08-49DB-B774-1FED1756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26058-B2BC-4EAF-919E-33EEA9EA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64C24-6B09-4BFF-9891-EF6CA106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CCD1C-0C72-4388-9F8E-5AB80D32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AB2D4-7B67-4B74-B7A7-AEF008C5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8B9B0-E34E-4037-9498-57920658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886DE-C7FF-4CF3-AE96-DF4C4DE2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33D5D-7B39-4ED0-9372-7AA0A9DD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233C5-6906-4704-B136-0D30FBC03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D0114-337B-481D-95D8-E11961BA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8390F-409B-4D34-AD0B-C6C53E96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75096-9CEF-4663-A878-2F04D554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B839C-6B78-469D-958B-96EFE398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35555-7E38-414C-BAEF-71B9BE8A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00E7E-8BBF-4DD7-B6C9-EBCC72CC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13285-E81F-42E8-A87A-9DE1E7DF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8D311-083E-499B-96C9-B34FB1B2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F7D34-738A-46BB-8B03-975E2D3C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1593-9ECA-4D97-A0AA-4B7D8FCC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86E12-2579-4FE7-908F-029732D5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52E6A-746C-4DF0-84FB-9770C031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7CF36B-C521-4B5F-952F-B0998B4BB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74F85-3944-4DBE-8E4A-E1AAD77A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EFC5A-C1E1-44F1-84EB-78D502BE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A7941-B256-48B4-9269-2D7AA3DC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572C8-B7F3-4CB3-9D2F-6312657F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321B0-F906-4631-9B04-BAD3A772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EE4CB-F0A4-41F6-BD5D-A5D13F2A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2C070-A571-4FD5-9B6C-9DCF226E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A58C-1C70-49B0-87C0-01C4E5E5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D1133-87AF-4483-AE3D-B0E77E16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8BC64-4596-4BD6-BDDB-6B883C3D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99374-63CE-491F-8FB5-929D3191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DC05F-EF81-4C56-BCD6-B5722A8F6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C1D20-5951-4B42-AFCC-550F5614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6553-8A75-4FCD-BD86-7174E336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4C77-5AD6-46B4-A52C-CA774718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6B76-220E-48A2-847B-372342E3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97A9-EEA7-4FA9-B44C-C43F1440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8BDE-6F03-4867-9FD9-9F25FF2A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7559-0C97-419B-93FC-DA6280D4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8F9F-1B24-4134-B02B-38F01815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F66B-C544-4206-BE3D-BC88DE29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C190-13E3-4CA1-B72F-9726FBF7F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81FB-7D8C-45C1-B976-33EC3517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5708-416A-4389-A042-98A0E0B12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244A-10CE-40B3-B665-769E4AD9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186B-DF0F-47F5-9523-8732D22B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0B07-2639-41F3-8568-2C7FB5F8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79C4-1A4B-4EF6-AA11-452EEC4B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7F03-7E80-4A1E-8220-80E25BBC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4A5B-876B-4166-ADCB-C2E2608E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C415-467E-49BA-9A4C-916A774F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BC50-AF75-45A5-BDA7-B3AD8607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D0E6-FEF9-47AD-A904-C9312C6E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E4D1-04CA-493B-86E0-026E1CBB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89DA-446A-4A60-A7A9-92953411C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E6915-D1D7-4EEE-A203-790815927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102FB-B6D5-4161-9A2B-3BCF2CCA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7A507-6947-46F4-B19F-37B3A3CC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66A97-B5DD-411E-9304-1345EE17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EC843-F9A6-413E-8159-5D0A1207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F0B80-76FF-4679-9763-51755FAA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5451C-D290-4CCA-85F5-7F467834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25112-4D57-4F3C-9FB8-82F4C25B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F41BD-7E17-4155-8A47-6AB8484A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A7E92-85DE-4A64-ACC2-32121066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1F53E-BFFC-4D62-8AEC-3074957DE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E93CB-F039-431B-930C-974FEF01E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7BA30-A1ED-4F9B-9DCB-5956A6F3F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3446D-575A-44AF-9CB4-E42840FD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8B376-A021-4B87-B4A4-0638CA4C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487D8-52A4-4506-BCF6-B354B087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9F345-89F6-48B3-A9BA-51FD525B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AB4B5-D4D6-4B8E-AC10-D775E057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AC8F4-EDAA-4437-A17C-7E14F03C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53DE6-674B-4FD1-9A16-B0C22260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11BDB-7DF5-4C64-83BD-67236387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0EA7C-41CB-47A2-89DA-04F78208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A12DA-A071-41B2-8002-B931A281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36B33-8A40-4399-A88B-D06154FE7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CF487-F4BF-43E3-BBCA-3C0A40126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FC3C4-2C2E-4CF4-ACBA-EF7248D6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0854F-7130-44F1-865C-6ADBB859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781C1-122C-4EFA-9E0B-80298126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6CF97-58E3-474B-872E-20FC5285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5C4FB-9528-43B7-8D11-5479128D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7E6B6-B274-4633-B9DA-FF900F79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C065B-2B57-47E5-9ED8-6E22730C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06D8A-3C8C-4B86-8312-92BE99E8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93E21-4F66-4AD2-B6BF-B99D2F9F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B4DCA-F69E-4F35-8276-B2F81FDBA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6CC81-E047-463B-8689-55FD01FA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4D777-4653-4D8E-9875-579B04958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E87F3-C9E5-41C7-B2B3-3A5A6205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58F3D-29B0-4ADB-A877-ECBAB0C6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4046B-4CED-4B10-B197-FE6A16B8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B612B-8CD5-416B-BCF9-C32C91CF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C03BE-7655-45B9-9F65-0B7DB0E7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785D7-B7F5-481B-92FF-9F8D53FE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2BC05-5859-474D-8DEF-2A0E7E71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3A528-B7FE-45C5-AA48-CCD1A1F3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18005-35BA-4699-B498-87E5A146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D7168-AC4B-48A6-81FD-50DFC9A0E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FB903-9FD3-4861-B4E9-A2378D71D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F4340-0CA2-4403-8322-34D748D1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763F2-1854-4D13-A184-7F42D82F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5CEC4-E27D-4B71-AF28-20CC4040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054F7-FE50-4704-B711-E81FDE8B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CDEC5-4761-4169-99CD-CFAC71B1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03993-F04C-45C7-86F1-133F667D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C0205-B3FA-478E-8E8B-25C72775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E886A-A531-4187-8CF4-6C0859C2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7E015-9A11-400D-B701-9AE5C596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822C9-398C-433B-A3F8-AD31BD6C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97511-EBEF-4AEC-9D2A-5E348E62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61EDE-8463-4A3F-BAAE-6C8CD53E6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2BE53-42D5-40D4-A8E5-F1930023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5851B-7C71-4BDB-BBC1-53D858E9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A2F0B-EAA8-4BB9-946B-2FAAEF33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75E1-C09C-4DB3-8FE9-F35353249BB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73D8-02C9-4E29-BB92-08624F1AC77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1335-D40C-492F-AB5E-28E8900848B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CB1B-0BAB-40DF-BFB8-383FF565244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0ADF-4624-425F-86F2-D67B991BCF0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3380-E919-4A9F-B2A3-DDA01650A25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5382-1246-49C1-A5B5-F104FEE36BE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5BB4-A459-4CFC-97B4-3A58F72E869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AC1B-EDBB-4EA5-B754-A9192D8D7AE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AC31-8884-4D4C-863F-C481AF19D05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3ACB-C3CF-47C9-A5B7-CCAEC368C61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609480" y="2214720"/>
            <a:ext cx="7961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895400" y="500040"/>
            <a:ext cx="53913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660240"/>
            <a:ext cx="578664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3786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" descr="\\genesis\Mission\Refocus\Refocus Images\ManWithBoard_Blue.png"/>
          <p:cNvPicPr/>
          <p:nvPr/>
        </p:nvPicPr>
        <p:blipFill>
          <a:blip r:embed="rId2"/>
          <a:stretch/>
        </p:blipFill>
        <p:spPr>
          <a:xfrm>
            <a:off x="357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\\genesis\Mission\Refocus\Refocus Images\ManWithBoard_Red.png"/>
          <p:cNvPicPr/>
          <p:nvPr/>
        </p:nvPicPr>
        <p:blipFill>
          <a:blip r:embed="rId3"/>
          <a:stretch/>
        </p:blipFill>
        <p:spPr>
          <a:xfrm>
            <a:off x="2286000" y="2500200"/>
            <a:ext cx="2982960" cy="39769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" descr="\\genesis\Mission\Refocus\Refocus Images\ManWithBoard_Green.png"/>
          <p:cNvPicPr/>
          <p:nvPr/>
        </p:nvPicPr>
        <p:blipFill>
          <a:blip r:embed="rId4"/>
          <a:stretch/>
        </p:blipFill>
        <p:spPr>
          <a:xfrm>
            <a:off x="5857920" y="2595600"/>
            <a:ext cx="29113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43:21Z</dcterms:modified>
  <cp:revision>10</cp:revision>
  <dc:subject/>
  <dc:title>PowerPoint Presentation</dc:title>
</cp:coreProperties>
</file>