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36FEE-1631-4278-A11B-34A90418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A6930-54C7-41EE-89F5-0D8FC031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B3BF7-17F4-4682-9FBA-1AD0116D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BC274-17EE-4CD0-8C67-1736194F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BFFA8-6895-4480-BD1C-CE21E73C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A4D23-D0FE-4486-A763-68FC8F66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D7289-403B-4DA4-A99C-0276E466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B01C4-E396-4DAF-AD61-092771B2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3D200-5718-44ED-A11B-65907283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92041-9EF3-466D-AAC9-EECC3CEE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462EB-4ADE-48A0-BAA6-6558DF81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5CE5C-26A2-4009-A475-2720FBC4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7A2D4-32FB-4B69-861F-4E4A5309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5782E-031B-4708-84CA-8CD781EC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52329-7AF7-45E1-B189-45566DF1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00666-8662-41ED-8FAA-BB33EC70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CBC7B-D901-4858-A42C-90158395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8561F-B3CB-4702-BDAF-B3FE39E3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04C33-66C3-4F14-93B5-80991EF5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C40CF-858A-456A-910F-6D731967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3C9C4-3F4B-42EE-8E25-7C797EB3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C1B35-AD32-4B41-B12C-1B30FEB1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E636C-132A-4FE1-B6EC-F1B4EF31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89854-B2BA-474F-A4A9-3221321C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4D3A9-87A7-4A36-96CB-5AE59A77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06572-F1A0-4D14-97FA-CD8FEF30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C89E4-42D4-4E84-A1B3-57B7651A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BF547-C871-4CB5-BBAA-B0DCE042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6EF45-F68C-4A96-A210-50241393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FC71B-9FBB-4C99-8E4E-2DB721EE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FD29-8915-4937-B3F1-8A2DF3F0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28024-F2BC-41F9-B1E5-DF903A0A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BB818-E555-4078-B8C6-84C27818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60D97-E9F4-4A99-BB9D-0460D3FE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AF222-BAB2-4533-84D6-AD196E88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DFEB5-641F-43A0-885F-1CC6D40F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9C04D-F70C-40F3-A881-139361A3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86793-DD75-4C6F-8D21-24DEE849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5F95A-2994-48D9-85D6-3F6E1F31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5D22F-84E2-4F72-ACB3-FEAC1D52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010F5-E1DD-4C12-8BC1-538533E1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9A5A-8410-4952-B5B2-0506AEBC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5D10D-E2BA-4531-A29A-D9A84CB2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707B5-0B9C-42F2-9BD5-3A5401A6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0AA4C-AD0C-4484-88E4-022FBD46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F44D2-6AB0-4AB3-9668-D3ED8847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FD0F9-3DFB-4523-BA21-5868E0BD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D3EF-AB2E-4AE6-B909-DD9524B9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9C29-3956-4182-845B-2D540477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D6C4-8A6E-4530-ABB0-F9B02DB7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5E64-4E8A-41BF-9AED-AEBB150B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C5DF-47F1-4BBC-A344-186CD223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59C8-65CF-4BEE-AA36-319F40AB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FB3E-8A2B-4CB7-A1AB-138D18E5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EF91-EC0B-4458-89B2-C279FD59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9F38-8514-439A-9856-B747EC5CC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46C3-7E7C-4BE5-8392-B62D2C88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6456-7273-4E10-91B2-26FE3E0C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A151-0EFC-4B3A-9D98-F8454222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6499-C532-4618-8E36-AFAEA554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FD6C-E1BB-49E4-A324-DBABE370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B4C5-E876-4170-8534-E47119FE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5D19-911D-405C-B13B-E4FF56FB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F6DD-B765-4577-A3E5-6DBBAC07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546C-D32B-4184-B52A-1F5BE8FB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E328-02E5-4FBA-9FA8-0CFBB14D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B73F-AE86-4F35-8C30-CF18229B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FE1B-1E40-4822-A057-3C904811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345E-2236-4B7C-8A18-F4C2CC5F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5DF62-BB2E-4B9B-B0A4-B795A0FE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5C28D-C302-42B2-8EF4-C928931E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A5A65-E114-404E-B956-A94685F0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9F46C-8445-4D97-ADDC-C6E9513D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96536-F3A7-40FE-89D4-CBEE1292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26B1D-50B9-482A-95CE-E3A9445B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D33F3-DD3E-4312-890F-3AE816E8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887EC-4082-4856-A5B2-FA475D91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F3725-8126-474E-A192-44D5A023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3BAF1-9817-49EA-A76F-328451AB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F4C9D-7BBD-432C-9F69-4A40DD47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AD452-43C5-4195-9ADA-CF2D6CB3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840E7-078F-464D-93E6-6D5F9AC7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8DE84-867B-45DE-AA8E-A0C85545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BD47F-754B-4650-A614-4DE021A4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24725-402D-43B3-BFDC-DD1AB919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FADD1-125F-495E-BE07-73A1966A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ACFEB-F1EE-44C0-BBD1-96F7CFFA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6626E-32FE-4C00-A6DA-F1DBFBC7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D6F43-00BE-4838-9144-6E24842E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7D3B4-76CA-4A58-807D-7C722469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86462-DEC4-401E-A50D-F2E7B8E1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4A345-3BE3-446A-87F2-B814DC4C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DB952-974C-4F71-A044-03D29CC69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5D976-6C44-4278-A00F-5E85418A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BBDD4-509A-4295-93C7-764A59D2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73F60-890B-4B64-B0CC-4CB11ED3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60B59-B113-4859-AE05-244F0B02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13066-4A65-449C-A2D7-F170CA5B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37903-E6B2-405E-BFE4-444B408B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CAF7D-6F96-419F-A9CD-DC3FC9C7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47BAD-13D9-473E-B138-582D2234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341FA-217F-4F76-8CF2-C917AC43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9B8F8-CACC-46DA-BB8C-87BE0C5B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2DA5E-20EC-40B1-8A9D-DC821A62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07808-25B0-433E-9BAB-956FF7DC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1C144-F5BC-45A9-B2F4-461E286E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15A0A-4F3E-487C-90B8-987FA819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AA6F4-6972-48A5-BD48-B51B852C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FDA38-728A-41DD-94AD-3F4BD378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1351F-4075-45F2-9DA5-FBA1E987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497B8-E6CE-40F1-99D3-0CBCA9CA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EA39D-AEBD-44BB-8C79-92A755AB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5CA1B-38F0-4A05-897B-B4B23E7B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26D42-90A8-416A-91D3-EFB0208A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C91EB-945E-458F-8B9A-FF5E4FA6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51ABC-3240-4E74-BE50-93A0178C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4A93A-65BF-4707-BA24-912CA85C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57FDE-A071-4B23-82D4-078A1C8E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5E3E0-A8C1-4000-B1F8-58571570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16684-B706-4456-9CF2-CDC4E99B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A520A-428B-4189-BAB0-867A81FB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D6E13-075E-4016-ACDE-69AB77F4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E9674-7555-478B-BA64-D521EB30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89824-2216-42DB-AD88-2DEF9DA4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D0B41-43B7-46FC-AC5F-C6CB6D92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CC610-0863-4397-9D54-3B0E4441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0C378-3085-4AC0-90C1-22A37CE6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5BE16-498D-42C1-9E27-5EF902EE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3E440-4E1C-4FE8-AE50-A8E94941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1C52E-933D-4DF2-8F79-06A99CB47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A3B98-8B8A-4451-B0E4-B6E31989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4039B-B01B-4B66-B46F-6FF287A3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2495-404B-4B17-A248-78E2DC5EEE9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30DA-44F1-4EDF-8FBE-7A2B4C3D334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987B-C1B7-4328-AB67-51622E3F92F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7E3C-7753-4CF1-BE0E-7DD61BBEC07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CC4B-6787-4658-A72E-D72E0EAAD0F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9E7E-9B48-4EDE-8188-38F3D5EFD22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AD72-9299-448B-AF6E-180E6A779CA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83F9-75E1-4AFE-B675-9B0C47BC389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EE42-A4B8-40F6-AAE3-40AE5162E6D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A315-A78B-409F-AAA7-999A6082E4E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7136-812D-4703-BB6A-3334A57AFBD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609480" y="2214720"/>
            <a:ext cx="7961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895400" y="500040"/>
            <a:ext cx="53913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660240"/>
            <a:ext cx="57866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3786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\\genesis\Mission\Refocus\Refocus Images\ManWithBoard_Blue.png"/>
          <p:cNvPicPr/>
          <p:nvPr/>
        </p:nvPicPr>
        <p:blipFill>
          <a:blip r:embed="rId2"/>
          <a:stretch/>
        </p:blipFill>
        <p:spPr>
          <a:xfrm>
            <a:off x="357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\\genesis\Mission\Refocus\Refocus Images\ManWithBoard_Red.png"/>
          <p:cNvPicPr/>
          <p:nvPr/>
        </p:nvPicPr>
        <p:blipFill>
          <a:blip r:embed="rId3"/>
          <a:stretch/>
        </p:blipFill>
        <p:spPr>
          <a:xfrm>
            <a:off x="2286000" y="2500200"/>
            <a:ext cx="2982960" cy="3976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\\genesis\Mission\Refocus\Refocus Images\ManWithBoard_Green.png"/>
          <p:cNvPicPr/>
          <p:nvPr/>
        </p:nvPicPr>
        <p:blipFill>
          <a:blip r:embed="rId4"/>
          <a:stretch/>
        </p:blipFill>
        <p:spPr>
          <a:xfrm>
            <a:off x="5857920" y="2595600"/>
            <a:ext cx="29113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43:21Z</dcterms:modified>
  <cp:revision>10</cp:revision>
  <dc:subject/>
  <dc:title>PowerPoint Presentation</dc:title>
</cp:coreProperties>
</file>