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EF125-6DA0-4D35-BD4F-746767D5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4C725-99D8-4EEB-B714-6DE20733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5B9D0-067E-43D2-AD48-DCAD831A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B6300-DC6E-4254-9BA6-D38757A0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BBFD8-F192-4B27-8D4D-E377473F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FA27D-10A8-481C-8BAA-C4666D13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61EA1-7DC3-4E57-9FBC-8E62A661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F5978-6FA4-4524-A69C-D32D75FA6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C950B-8563-4491-B3AF-40D3CE59A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F7F70-0286-499E-88A2-D940BE880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1D24F-62D3-420F-BEC8-1FF36A5B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3C0E36-987E-474B-AE2B-13A0122F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88CCAD-A320-4A3C-BEAB-437ED74A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72466E-2C73-4B1D-815B-8F875AE8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0C1572-0368-4D51-AF8C-E623E2C3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648BC0-14BA-4F6F-A961-77198684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C2D6F5-87CC-401D-8605-35A2BBDC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E25B6E-17DF-4891-86E6-DD7E21AD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A38FBE-530E-45A9-AE08-9298C1C5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3B9BB6-6EBC-40FD-8A7D-13ED4EEDF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663521-97C1-4D09-B91B-EC7E4EA22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2E7A1A-E835-4F39-8FA3-96ECB67B1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628A95-3098-4F77-BFC1-63BF6971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E06355-89B2-46DB-87C9-DFB9B528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07EA82-9093-43A6-A9CE-F682ECBA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00FA6C-7E06-473C-97BC-7D04BC6A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46D2D1-C0A6-407C-9C3C-483AE742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74BC19-6A85-42AC-B536-8B3CA7F4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6D383B-7465-4D20-B312-7ACC545F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345FA5-8DF3-464E-B03A-AC88176F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67A0-88B9-4C7D-9040-C5A7F153A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815C89-BC4D-4F20-87D4-0F00DA79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EDF9C6-4748-47DA-B84F-F84B49103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8F94F0-0597-4F54-A4D8-17529D39F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EA9350-EBDA-43D7-AB69-7FBF707CA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B49056-7F1E-4B6E-B844-FDC20F80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8EF2D-9685-40F5-948B-C57AA8F1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B6E83-668A-4803-8818-22F0099C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4AD3C9-4CF0-4677-8074-2A1AFD06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E005CF-9780-4BB2-86B4-C0A04757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09FE9-CEA8-4B6A-8852-86206FFC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8D0C-FB53-4C6E-B424-3FE32C71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C7B624-9352-4C7E-BE57-7D845C71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03A75-4A11-49C8-8F6C-23E52AC0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83E452-97B6-4EDE-8198-4BC972F7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A107CB-54A9-4085-B98D-70FBA9474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1308F1-82E9-46AC-9941-9F4584AB3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5711-3470-49CA-972C-308D3266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D850-4698-472C-AC9E-997A2E04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F428-91C5-4352-8DB1-24C711AF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11AE-A3D9-4631-869A-D25230BD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C3B5-8A4F-4C34-88F8-F286405D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3FD1-200B-4E27-AE7B-DF1D4EE8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A348-67A3-4A09-BA0F-2E2770DA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EBFA-3746-4251-BEE1-D269CC32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42DC-E18D-461D-8795-57F6EC6FF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9E97-B900-4872-9F56-EE8EFD951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C8F10-E557-4AE8-8C1E-07A99C22B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E2536-1D12-49D2-A6F6-D1F80F8A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191F-D0B2-444F-B312-9F4568B2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874D6-CBF2-42F7-8060-248A015A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C425-398B-46C3-BF4E-577E9CE7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DFEA-0AA7-4ABB-A2DA-E517C3DF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7C46-C783-44C4-947D-E95D60A8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C5B8-F04E-4348-AE0E-9FBBB4E5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1AD8-FF16-4936-BA09-79196758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958C-F869-418E-99D7-8395702A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76F0-B80C-4021-9722-91C3D97D6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91BF-6FB5-4981-B72D-B3DF14C93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41CE4-99D3-45B1-B63B-EA32D9561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D5653-D6A6-476F-84F7-EA38F8AF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2BCA2-D61E-4A3E-9147-73228EB9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35F71-6662-4AD5-B268-E1201891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A57D2-2607-4D4D-9228-A16C5429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71F44-9298-48EB-A29A-BCFE7185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9B447-7D29-4246-A621-635BF67D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C261A-B146-4860-8A30-D49D444B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6A0C6-870F-4A8C-8CF0-2817A05C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4E95B-2CA0-4D11-9AB9-6E9D2C43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CD4EA-DB49-4556-8FF4-A2B0A091F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88FFA-24FB-4D11-95C2-E23432A89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B42B2-6BB8-4333-B426-FC855977D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1DA01-DB21-43F1-AD15-545F2199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39B1F-DBB1-4EB8-BB65-C7326C47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F82C1-8205-4D96-8258-B6C2DB54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D3A04-E35A-4967-8202-0A80FDF1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73558-6B71-4054-9EEF-A79F8F4F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171C1-B65A-4AFF-AB12-BD9F20FD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A0066-9640-4D04-9FF5-9C043A5A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E6730-9B4F-4913-8281-F77EE8B7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2FBE2-9414-4F23-A798-BD11AD60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621FF-6C8F-4CA3-9786-C3664DC3E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43AF2-53E8-4804-B579-53852D5D4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A80FC-D741-429E-A47B-4B30C506F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E8F7B-5C4D-44F6-826B-913F44AF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C313E-2E23-44EB-A4D1-B924B6E7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51BE1-BB8D-4475-BB72-7DE52389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305C1-1F2E-434D-98C0-8ED0BD1D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53762-ECE7-4B38-886B-B1314773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A2E51-7750-4A41-9F70-4D59EC8D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4DF7D-FE67-44FC-8927-0E87DE40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54F4B-1FD4-401E-9683-4ABB4ED5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3ADAE-1B47-45F0-B749-9A473CCB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3F63F-2D6C-4792-8F3A-21DBDE6C2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B15E1-FE8D-463E-9335-D8800232D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225D2-6577-46AE-9BAC-DB890DE55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4339B-518C-46B0-8AD6-CDC9E16D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174A6-7195-42F3-B9BD-5A892DC5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7DC18-BD8A-4405-B9F9-84E3ABA6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FA1E2-4262-49CC-8D49-22940CD8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286D8-8083-46A3-9B58-BBF3E993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A536D-F363-4509-BE6C-003FA8EE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A003C-C983-496E-AB5D-4CFABF96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3E971-DD00-4F9C-A013-42304588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735B9-2AD7-4B04-A9F6-E247144F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9ADAA-16AF-4F55-BADE-C1407B031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8E424-740C-47B0-B7EC-83C0208A3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2A3B6-979C-42DC-BA63-A60C3262B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8EAF4-EB46-4347-86E1-BDB9BC16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75F8B-FEB6-468B-BEC1-191352B9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F484D-DF8E-42C4-B043-2BC9363B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46C36-1F92-47C3-A0A7-DCDFB57B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B4374-D9CF-4C1A-A11D-8AD4E612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6F889-E77F-4E5B-8687-73150EFC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B6486-104A-4F36-BD04-6913CA11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9A36E-5EA3-4B48-B79B-8BB77F9C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AD2D1-0EA9-480D-8784-F80B26E6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005E5-00CD-45DB-A7AD-0EB5D5BDC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3AD59-97D8-4594-BD64-1F9DF9E47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392993-46F2-480E-B8AB-F90BEDCCD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12B0E-0435-4C5F-9E30-C0BDCEE7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FBB6F-30BE-4CB3-B14E-A8B2CBAA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5BDA-3ECE-4A0C-BB74-98F2160FDA4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8A37-4AB3-4133-8D65-18F4F52757C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2A74-72BB-4F5F-A13D-53EE5A3B909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F5E7-0F16-42E0-957A-47FF02F1785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EC2E-BB47-4DD0-BD3B-CAD5EB9232A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38CA-8F19-4F41-8A8B-A70D54935D5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58E0-392C-4E1D-BB96-0B236028B86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1DD3-E9D1-4BAC-B516-9813E593A46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8335-7B70-44D2-BC1A-8AD0484E495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FA01-049C-4A06-811E-E129E3CA37A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EE13-55CA-4E01-8949-1BF62CF2834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Getting A Grip On Reality                    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539640" y="1844640"/>
            <a:ext cx="7712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ithin the last 30 years the world has changed dramatic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change has consequ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‘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Insanity’: “Doing the same thing over and over again expecting different results”</a:t>
            </a:r>
            <a:r>
              <a:rPr b="1" i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(Albert Einste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Getting A Grip On Reality                    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611280" y="1844640"/>
            <a:ext cx="7640640" cy="52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 observes the culture surrounding him (v 16, 2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 preaches in a different way                           for a different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Our God is Lord of the ‘different’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0:46Z</dcterms:modified>
  <cp:revision>8</cp:revision>
  <dc:subject/>
  <dc:title>PowerPoint Presentation</dc:title>
</cp:coreProperties>
</file>