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8C63D-4654-4BFF-9B0D-9CFE99E1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88352-B7EF-43B1-93F3-2160C749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225F3-B8E5-4D88-805A-8EA169D7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8F1C4-71C1-4A3D-8AD3-1C7F6C2E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DFAAA-943B-4C5D-A18A-CD931261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AEB7B-F379-4939-A887-88F5E8EB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3E398-C5D5-438A-8B4D-EA7FED07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6B123-0031-4D11-ACFC-A15B1541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3B3B4-2557-4AB5-9CF7-0149538B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03D39-81C8-40CE-8B25-355C1D77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15847-EF1D-4E4A-B4BC-41104BAF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88C51-5254-4512-A3B7-B351B800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CBBB2-3204-419A-87B9-13C5E3F8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6C75C-7088-42A2-A7ED-DE1B6B0E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66BF1-FA25-4F74-84A1-C19CF826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863DA-9789-43E0-8CC6-9EA27469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6283C-7D95-41DC-8CE8-E0BCC4A6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BE156-BB55-4385-8FA1-E8F0DF7B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51E48-2C61-4589-B2BA-D9776A55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A807E-8410-40CF-9B65-CA5674F7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52B74-243F-4F4E-88D0-DCBCD93A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341C6-21AE-4122-B23A-DCAD5A73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61A32-4B06-4C84-A73E-F45D1604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CA577-271B-4C67-ACEA-38BC76C0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3173C-5D10-4585-B998-68919B0F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36E26-1556-4CB8-B5F7-9EB63BDE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860E1-9E80-4AC8-8C7A-C8C565CC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4BB5E-D77C-4E71-849A-295003A5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F1974-CFEA-416B-A0F7-0AA08D59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04C92-3136-46D4-8FA7-9669E90C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476-6F7C-496D-A80C-61E45006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CD11B-DC84-4457-941A-E6DC4267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81B0F-EEAA-4A49-A8DF-17660E08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8666C-43D5-4359-A675-4982F07F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9F9F3-0B61-4837-89E6-2FB4366E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D863E-58D4-42E2-887D-ED2EA075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7D1E9-1F4B-423E-97FD-F7487137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8D3C5-5DA1-4113-8CE8-93680F44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D9EDA-8B77-452B-B894-75C5250E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C1F70-6838-4C0E-96E9-2218E112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2BA27-3D4D-404A-851E-5EC95299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B1A-66B9-45E8-88F6-DDC09EAE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75A63-11C2-4ADE-BFD9-5626325C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A3BD8-0E86-4876-9A78-554B96BD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B9451-EDDB-4281-B095-C9575B18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819BD-C19E-4F26-9BBD-F3E44F3A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B215A-8E0C-4CDC-A077-21A5C908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70FE-6FF9-468D-97B1-6F762987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29E1-9449-488F-9BB1-A7352CFC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319F-8268-4776-A877-028ED89E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AF78-198F-4C28-9479-C7EDCE4B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602E-892F-4722-B711-E4B76493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FD0-12AF-496A-A813-207AAA3F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17A9-9706-4E41-9D36-119DCF28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65D-4FA9-4813-96E3-11424A4F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2D3-8A47-4BA7-9F58-CB6C4C2A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88F-5D19-4260-87D0-FB40FEC5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B56E-D293-46B3-B4F0-A3173A31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8447-4B8D-43E8-8CB3-80F15E52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AB1F-B065-4CEC-8346-9E1AE2ED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4BB4-DDB9-47CD-82DC-9766AAB5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3861-0CAF-4358-A243-6973107B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9BA5-96F0-4CF6-919D-79484999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8715-7494-447E-9015-939E8EDF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30AC-6622-4FCF-AC8A-32EF24E8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6ADD-F04E-4E27-8A56-B5BA33A6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3215-A966-4599-A8E0-1029BACC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FCED-7AF9-4016-8612-67BDE023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CADC-A82D-4766-A1DF-AAC5466D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B086B-50F1-4AF8-9F00-12A4343B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49DC9-4483-4065-B619-8321F40A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D756C-6E77-4A6D-8B93-BFCDDE13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1A75F-CED3-40A6-A766-9714E87F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FB053-EE62-4A5C-8EA9-8C97DABD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786ED-2751-4C5A-B962-54657026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330A5-F0C5-4296-B8C0-8D3B8F61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2F779-CAFE-4B64-9440-E16A3D8B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FEA3C-D3D3-4E75-81FC-0E8B1444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08364-8245-49E7-A372-24CEFD5E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CE521-2D7F-49A5-A20A-034A97A7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7C864-D2FA-4324-9FEF-A18F4746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626D5-1B61-4F2E-8FE3-026A9BDF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18A9E-9B01-45DA-9D8D-4C71BC10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BDF46-3AE9-424F-9993-C9F83BAB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3DDB9-5259-4D1F-9706-C908E377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C9D8C-288E-4253-B87D-C467E95F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C1297-444F-42A0-B183-78721DD0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87BB2-A582-404C-9EE0-3EDAE898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D72B5-AFE0-42D2-9E80-AA044B8F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C078F-05CD-4308-AE2E-AC4A2B71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56383-D50C-4224-9E0B-7654849D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7CAAF-C551-407B-AEBC-80CBD667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C9F07-E5B6-4A9D-8B08-6F8A25ED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F78BC-55A5-4BB0-B0C9-250033D2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CA352-C1DA-4C11-A8A3-87D8EC84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B51C4-8645-4AC2-9311-1C6DA9BA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D9E96-5660-4A1B-B9C6-C44E4384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6CFC0-40CD-4F96-8076-B0CE4B60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706A6-358E-4488-8D22-50A77518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D78D2-B802-4411-9E84-931C4CB4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3D783-4108-4B1B-A671-5D1C7D71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7F3E2-FCFE-47B9-8C67-B17F861D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1D5ED-D550-435C-921C-C6B97A20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8F2B5-FA82-4F7C-AE30-7EEEE0E3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9C918-74DF-400F-871D-FD828A6A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EDAE7-EFCD-44C3-8834-29B8CC2A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D13E8-F213-41D1-85FE-65FEB307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2E2AF-D2B5-45A3-8CB6-9F26CF51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9BBF9-C151-42C6-9DC9-7867DDDE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03F8B-4F4A-43F3-BF19-E1ABC181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91F05-B68F-4261-AAE0-C99609DF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B7840-B9BA-48CD-B3E4-A33EE9C6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9A986-9D5B-4542-8A62-57B826F6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16465-8779-49A2-A4CA-F8BF6BDE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A0A0C-4EB8-41C0-95EB-B8487E4D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E8575-DBA2-4145-84A3-F7C0A1E4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39CBE-3C23-4384-8475-BEB6313E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6A453-1F2D-4135-BDC5-0DB3B169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BADF3-ED73-4091-B3F8-0C5BC61A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FCFA6-AAA9-4867-8027-C10FE686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D5A63-2192-416C-96FC-7409988A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AA367-A36B-44F3-A212-741F47DD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090C6-19A6-471D-A814-81591CA2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BA6E3-BAA0-495A-8FCE-AB024BE4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8B8F9-85B2-481A-B9C4-0D2C7FAD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85AC2-EABC-420D-ADC2-82812019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168D9-E9F7-40C4-96F7-EADAC7B8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D4380-897E-4077-A619-F75B205F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5CA5D-A12A-485B-AF9E-B099C557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FB55D-CB8D-46E2-87B9-037E83A2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333AD-A4D9-494D-AEDB-B03D6606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EA63D-F2A7-4F84-948B-14205B4D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055A-CBD8-4979-ACCC-C2E2324CDF5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EE04-25E3-4024-BD30-FC662B963A3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415B-54CA-4EA6-B78F-BC0C293C1EF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0454-57FE-4215-9868-451FC119DD2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3339-AC66-4ACB-82D0-38AE6ADB2FE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E9D1-CB90-448B-B334-D722EE3FAF0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B2E8-287A-4A92-881C-C3553CBFCE9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851B-E527-4F88-8599-3B02A4E33B1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1CAA-F141-479D-9FA5-300F2221779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2096-80C9-464B-B728-D6B4A2FC6D1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8CD4-B857-499E-B284-7041C33198F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24000" y="2565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are God’s plans for the world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’s our place in God’s plans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108000" y="2421000"/>
            <a:ext cx="87120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salt and light in the 21st centu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ing the character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owing the compassion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ing the message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12Z</dcterms:modified>
  <cp:revision>10</cp:revision>
  <dc:subject/>
  <dc:title>PowerPoint Presentation</dc:title>
</cp:coreProperties>
</file>