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8AFDA-D091-4C1B-9EB0-8CB50B4D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96569-DFB5-4403-A750-03D9AB8D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B2DEB-D7A9-4478-A773-718CB829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497D0-702A-4A50-A24A-F4884597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B9757-2678-4426-97AE-D6D3D54D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66C51-E49D-4B5C-A039-4AA3EDBB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36414-30E5-4FC1-A571-300DA1F6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F6188-C373-4F8D-8456-A994635C9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CDC22-02F8-4F94-A2EE-3B774BB5E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DE413-F23D-450E-BACD-EB9ACC54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F60B4-346C-4331-BB9C-46F0D533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72DF0-8E12-45BE-9C2A-E3126BA4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845E6-2C49-4CE8-BB91-40E54ED8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953F5-67AD-434E-BBF4-CD99E871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736C8-D054-4479-B137-FE9A030A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456BB-FFBA-4757-BC8F-A18BB2BF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53172-9212-4294-ABE8-B61E7A1F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B8BD5-9145-4B19-ADA7-B5A96CE7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51AB8-4E9A-4F2F-A831-EFC3F6F5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88827-96F7-45BE-A074-968C5F2E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535D5-B724-4B2E-A7AF-19B96175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C10F7-D756-48A0-9653-6040CA5A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F7742-2F4C-4600-8DD8-AF878D01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A3E6E-441A-46AB-8B4D-4B94A695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C528A1-7051-4164-9DED-C341786F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94BD6-1E63-4419-B3EC-BE65671D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A2EE68-B6F2-41A8-B136-70281C94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0C501-D029-4C7F-AD0F-9B5645FE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5DBDC-250A-4342-B4F5-903F6307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1FB19-BFC5-4307-BF6E-F6FB0C3F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3337-867F-4735-8EAE-4DCC3717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BBFC9-802D-4EC1-AC0A-F76923E9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3514E-435F-4E38-9A1F-376696E45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9DDFC3-BAFC-4486-B1FF-C9A6A0E3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2E57E-7259-4494-B0F2-A03F3AA9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3CFF3-9C30-4391-932A-5652E774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0BEF4-ED8E-400F-9E83-900B1750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FFCDB-AFE9-495F-982F-2F9FA559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C72AF-C120-4FE3-8EF3-1D0987A9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C1871-6C00-4DA2-BA2E-42698748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CF11D-23AF-43A6-8C35-D3377EC0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ABA1-72CF-465A-AF02-3047BC0E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7C2D1-2FF0-445B-82F6-197DC69E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49BCF-F71D-434E-BD73-8B59D45F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68BDC-052F-4800-A354-14BC321A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6D827-03A4-4927-AFDA-23F8F33B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5544D-7698-4B40-9B79-46F20EEC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3CB9-1472-49D2-B628-3DBB2BD2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CBFC-1DDF-4F92-BE3F-24F29CEC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61F2-E82B-4730-A32F-B9DE0932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2DF4-E314-450E-958B-44859BDE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CBE8-D051-49F9-A803-7654E517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5DCA-3378-46E2-9FD3-D954B213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A5B9-E46A-4010-8BA4-199A6560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CE7F-416E-4AFD-A4EC-3B16D829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98D8-AC73-4B43-A42A-02F90226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B0DC-A671-41B8-A384-5CD9BD6C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FFC1-EE46-417E-AFA7-193E903C8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66E8-EF12-4334-8E20-F1881A1D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1A81-EC7F-41B9-8CB5-A974AAE5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639A-07D3-4708-9A7B-16F02CE9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8ABA-0EF3-4B69-A199-D9558B6A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7A00-B3A8-4539-A8AF-C44951E2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53E2-F078-4EF7-B878-7BA8B853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9080-A5A8-42D2-8C73-ACFE2FDD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BC9C-13D7-46EE-8FC5-A40A5591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46E9-2653-4091-9384-B5D520BF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746F-900B-4359-8039-EB984FDE3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4D76-BAB6-4C26-882D-54BCA859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54816-EA02-4109-815D-47CC6F0C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16592-3152-45B2-8DC7-3CF3D2BB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416C0-35FC-492B-958E-80C7F299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48365-E5DF-42DB-BFB5-FDE0CC8C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670DC-8BC8-40CB-AB0D-ED63BABD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BE27D-B833-4D1B-AA10-B2FB4E11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C4631-98A2-41B0-935E-59EF99BC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AFFD7-DD49-4570-A8A2-B88C5C50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0C103-1FB3-47E7-916A-7997538B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3C660-713C-49A5-97DD-75E538DD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C22D5-59CE-46F5-8CCD-319F3365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8E14C-5BB8-49E5-9B98-5FC9830D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A12F8-044A-4739-A527-FC699B220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DFE17-6F86-4D73-AA0E-22081145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73DF3-BCCA-4CDF-B8BE-9E00CF15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5C863-4CBE-4DA8-A50A-4E1A4234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FFDBC-997F-401B-B0D9-8E0D4551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39937-B0DB-41FF-B2F5-4431A7F7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2F911-77DF-4655-98F2-65034FD6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6D4CD-60C9-49F7-A555-86091376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CAB4A-576D-41A3-A682-FFBC1648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6D30D-720D-404D-8E08-5D4FA2CE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D6CC2-E2D2-4365-A24D-16ADA262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6321A-0F40-493A-BCE5-CC863723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E7FC3-9C10-4FB7-93CA-3EBC7837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44F95-67B1-4B3B-9396-24AF5AD5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A49B3-F66F-4A1C-869E-63B1E7D8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81A5E-F8D7-4E53-AAFC-3BCF66F6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76A93-98BE-410E-B88C-566E6562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F23B4-1663-4789-961E-7C78F21C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78120-6AC1-4EC7-9F26-6B1522EC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71D87-3504-492F-A932-B9B7EC3A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FD764-64CB-4A5D-AB2C-C9E86E26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233BC-A286-4825-97D9-76CA3BDB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4FC1E-9CC0-4BF7-B9AC-A64276ACA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D834E-2C67-42D2-B06D-F07C1537E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27350-0279-4391-BDEB-D55A4EC8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5C8BE-D2BF-48EA-B96C-7DEA9517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5AB13-7AC9-40D3-8E15-A1F296B0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F467D-52F3-4898-A7F5-AC9F3FD9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227B7-419E-4111-85B4-0B86BEC0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F3129-6E52-4FE2-9917-C8017865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FADED-B96F-4C32-84EE-D6D0AE7A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C4B3B-0ECD-44C6-8B0D-0470AC26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E6209-2E77-4CFF-8164-39A31067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32822-9593-4D54-849B-ED2BDCF8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055F0-61F0-4674-B2D7-A916B08F4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6B273-4B9B-4E24-A83C-9FCE146F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1389E-9B2C-4AEE-86A8-1429211B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6D4A6-B621-4CAA-B70E-3317E3B0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656D0-8AE2-4774-ACB4-CEC7320A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69B64-7A38-4EAB-B51C-D01E4D87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51BFE-392A-4499-8839-5EC6D621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80023-C582-4DF9-9E99-5EFA2DB3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16257-E78F-4632-A33D-96416F88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CCB0F-83C4-4A78-A59E-E18EA25E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50115-8586-4B38-AEB6-4857CB85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3BF98-5C16-4FAE-A36A-64AC12EA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5E4D6-4E72-468A-92F3-516469368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6A226-B7DA-4BEB-9938-432D7F78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CF126-17A1-4C04-8AA0-B111724C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F09EA-51FC-4555-8584-90EC515F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4DFE3-5094-4155-B20D-0A3539C8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3689-07E8-40C5-92AE-0216C274092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8FED-6128-4EAD-8A1A-0D64E552047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7CB6-21D3-4881-B8C8-50406214D21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18E5-595C-4472-AB9E-F3657875DA0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3760-EDE7-4F54-A38A-0CD661D4983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7518-B244-48FD-8CEB-85C4B66FD22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AAF9-DEAB-4064-85AD-88A883BAAF1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547B-150C-4878-92C7-98C2C33354A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3B95-435E-42C1-9901-0C785955559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4596-476B-4CB4-B388-E276822A8BB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0396-2B1A-4C6D-9A34-023D12DE252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844640"/>
            <a:ext cx="7856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Relational Factor: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He says count conversations, not just conver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2 The Narrative Factor: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ir story; share your story; share God’s story; not just propositions or formu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395280" y="184464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3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Communal Factor: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xpect conversion to normally occur in the context of authentic Christian community, not just in the context of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4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Journey Factor:     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o see disciple-making as a holistic process and unending journey, not just a conversion e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5"/>
          <p:cNvSpPr/>
          <p:nvPr/>
        </p:nvSpPr>
        <p:spPr>
          <a:xfrm>
            <a:off x="395280" y="1844640"/>
            <a:ext cx="7856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Holy Spirit Factor: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lieve that God is at work ‘out there’ in everyone, not just ‘in here’ in the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6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Learning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part of your own discipleship – not just the other person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5"/>
          <p:cNvSpPr/>
          <p:nvPr/>
        </p:nvSpPr>
        <p:spPr>
          <a:xfrm>
            <a:off x="395280" y="1844640"/>
            <a:ext cx="785664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Missional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recruiting people for God’s mission on earth and not just people for hea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99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8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Service Factor: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one facet of our identity as servants to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24Z</dcterms:modified>
  <cp:revision>15</cp:revision>
  <dc:subject/>
  <dc:title>PowerPoint Presentation</dc:title>
</cp:coreProperties>
</file>