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F408C1-227B-486A-8D3F-C66E3B405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F63801-FE3C-40CB-9462-7B3B9DC4E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8744A6-F478-4C1F-8F67-5D1E9A2AA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88E837-A305-445F-BA66-84156F295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464196-3D49-4187-A30F-CEC22EB18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106840-16BF-4E90-8162-BE8078021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2C9E3C-AA8E-402A-A2A3-B0EC99700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4E2C09-5487-4EDF-80DF-F47570CA5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161AA7-A536-4550-8872-4A410C75D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9FD71A-DACC-424D-B1B7-39D982F18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71AD76-9CF9-4677-ADCF-445B48887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93275A-201C-4D7B-A35F-2C1626430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3CAE3B-B472-4AB3-8836-3DCC39777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534E98-DBCC-424B-9109-1D74BB86E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A293FD-F302-45A7-89D8-57F95609C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631E07-7A31-4EAE-A2EF-C143C0BBE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E0ADB3-68A5-4763-B8E5-AC4D3D2BA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6FEC4B-B19F-4751-9564-18F8853E4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D36245-E8D8-429D-A00B-2BB6C1F39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08ACFE-61D6-4841-8DE5-1BA0EEC87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CDEF27-D37E-44DD-88C7-38F06D90A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C69162-C1CD-4046-A68E-B0402BAD9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EE8B3E-3B02-487B-AD0E-E5B5B74B5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FB1E89-4E80-40B8-AD4F-877E19C85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E94615-4B91-480E-8339-421C36709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E94111-220E-4320-953D-F5A514F91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3B1D67-F20A-4F4D-9636-1235AEB2B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0534F2-18C5-46E5-816B-DEF5507EE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A3608B-06A8-4F6E-886A-3CBEC771D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7EE051-2984-4858-90A7-FD434E8AF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CFCCF-C7F2-4346-8E60-D3143A19A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D63441-5F01-4409-9B2A-52548178C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075BE6-8F25-4CA8-B36F-1CAFCB731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F14810-DF5B-47C7-A095-E1A58173A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6BDDF9-63B5-4646-874B-828B27668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D11218-AA7C-4E9C-B5B3-202CB92D3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BC85AB-BFF5-4E25-A683-6FB232C7D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0B982F-2787-4DE1-9BF3-F271282AC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473AA0-CCB8-434A-9D15-31A625432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A02C5D-1CF0-44E4-A564-D390C0CB8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61FE6B-244C-49F4-AF68-84DCBB4E4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DD565-D438-4975-8867-7F3EBD2AA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52B660-0620-4D1B-B379-C45B20228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10659D-0F64-4909-A56F-AA74649C4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2408E1-87EF-472A-A9C8-A2E8C7A03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07DD01-94DA-4745-B57D-B07880E90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9AEC36-4F41-43D8-9995-6FC697B92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98AA7-989D-4B42-AE23-11CFD5593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871F0-768D-4EE9-BC02-47B1C0DB1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9B9C4-8E42-46B9-8C1C-E1273B41C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AB927-F537-42F2-A8BB-231003DAE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C9FB7-0104-4598-B9F2-EA38967C5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7CD4B-F1F5-4C29-B2F8-CE2093577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186B1-7BA0-4B41-811A-53E88F53F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5B836-B5D0-4027-9277-17A228778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F0B0C-C445-4A45-9AF2-388C86B29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AF90B-3392-4CE5-BE1C-9D0AF4F95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1F92A-CAC6-4BDE-8EF3-6513AE7DC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D2146-A8D5-44DD-B55E-C99B84470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80F7C-721D-4EBC-8A90-98A07E7B2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085B5-3BC8-40EB-AB0A-DC2A6AB63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0913A-FDE2-4590-9B09-39148EA0F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C42F5-6617-422F-8DDC-10E451CDE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DE40E-A589-4A87-A570-B85439711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FE227-F447-4380-81B1-FD07CA6A3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8CEEB-F753-48D0-AA80-6749FA51F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68C97-5E24-40AB-A997-FC4CAE92C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B7473-D417-463D-87F3-E0424E9DC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AC2DA-C293-4740-B8C6-D3F1DA4EF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BCDA9F-8F46-49AC-8899-34921E02D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2881DD-4A01-4AC4-83BD-785429755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480C40-94AF-4FD5-8CF5-DF1BC8F0B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6DF5E8-3C2B-4F21-AF69-369AB26F7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82B7D3-542E-4C42-9308-2CD1DB1A5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C5CF09-49C2-441A-8E6B-C248D39CB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F820BF-584C-40CE-BD03-DCDB8CABC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1F809B-E2D6-4A54-972D-D686C8FE6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D1793B-A44B-43C5-A275-6AEAE9973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267D18-EC43-47C7-826D-F4226B03D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11F3BD-CA0D-4A2C-A528-85462E776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E26B3A-EA61-40E6-86D3-8A7503086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6BD1DE-5C42-4B7C-A5B1-4CB3F92B8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78280D-ACCE-4E8F-A988-E4C405A27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D512B7-B710-4D04-AED0-216517147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9C125A-54C3-4204-B3EC-0CB4AA1CF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775542-7AB4-49A0-82E2-2686D429C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CDCEE9-D890-4822-ACC3-FDC1DAE58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75C502-4094-4C29-AC2D-C03F4A8B0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6A66AE-227B-4B61-B746-8635A106E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07666D-BAEA-4BEF-8E69-744195A57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3991A7-F28D-4C02-A868-FE51C5439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6E8671-075B-4CAC-AB3B-ABFEB52B9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75600F-AC5C-40D3-A16C-00CF82148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92A725-8981-4F70-9C38-F4EC9FA72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643C80-237E-4DE8-993B-AEB5E06F8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15188E-AE6B-4312-B81D-2D001DA52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2AE43E-A34D-43A3-B51D-EB482CAFE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55E2D6-8DA9-4EE2-A7BB-328428D59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ED93A2-FC9D-41B2-BCA4-F6B4257CB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23BB67-D85D-4C97-B3D3-DDA10F9F6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EB1636-74F3-4244-8467-2BE9D4C30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96EDEE-12F5-4FA0-9565-A479F4590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3BAB1E-609D-4226-A096-91E9193CD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E39618-4F01-4349-A575-184F22A55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9A1926-7456-459B-AE94-CD1316EF2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D46ADC-E96F-46C1-A1EF-B0333ECDB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4A29A9-F678-4542-9611-98098D4A2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78CB09-538E-4C1D-A4CF-2BECF2907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8F447F-4AA9-4202-9D6F-E58B4CC41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CF9E33-E126-40FE-ABD6-1D44C8BEB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2E5412-1D93-4D40-9120-CB8183716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267E44-93DD-4FA9-9905-1E0B765AF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6F1038-F457-4E16-953A-F704F586F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4C563E-8BF1-4EF2-89C3-F0DED0EA2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AAC43B-52C8-42D4-968B-0310156F0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7DBF2A-4BC3-4A53-AD72-3C45D1DA2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4CDF63-C2C8-439E-83B0-650C9F287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A2DAA3-35F6-4FEE-AE25-0824EE696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48B82E-AF03-419E-8B2F-F6F4FCAB8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3B8195-C1E8-4215-A1E3-E99254047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B54E5D-2A52-4992-A3AA-BA82F417A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7082E0-5B0B-4BB9-9B60-4247DABEF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B21033-92C7-4741-BB0C-8389DECB1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D9CBC2-339E-4EA1-8626-2AC486E79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5CCEBC-3F5A-4FA1-B8D2-1786F7184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D7B0F6-336D-4558-825F-EAB8688BB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1C509D-27D9-4255-A3BA-127C92D1B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DA50EC-BD05-4CA1-A145-65CC86C77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EB2113-631E-428F-9E38-85239CC48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BC2A37-A9E6-4D0F-95CF-E33E27546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09AA38-2A7E-414D-A870-D8DEEFCE9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C9E456-2BFC-4407-9AE5-A7EBD3CB9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379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4810E-5DD3-4601-AA87-1F220BABC04F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21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4CA3B-7A3D-40C5-A0C5-1E1833505917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63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D912E-7B0E-4077-AEBF-3178319A899B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1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50F9F-DBBE-48B1-903A-E4CEEE8F743F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83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C9F6D-1133-47ED-AC24-232FEBDD78D4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127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6E62B-622C-4DB1-8B2C-47061BFC37FA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169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2E49B-0CAE-4BDD-9416-5887EBEADDB9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11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3F308-6AF9-4061-893E-2ACBF02814AC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53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3292C-047F-4415-86FC-36D9A16A7A8F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95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CBA97-08E0-48E5-B158-9A5E35DB7BC9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337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DE824-4ECE-43E2-9979-95B86884174E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TextBox 3"/>
          <p:cNvSpPr/>
          <p:nvPr/>
        </p:nvSpPr>
        <p:spPr>
          <a:xfrm>
            <a:off x="0" y="54936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Tahoma"/>
                <a:ea typeface="Tahoma"/>
              </a:rPr>
              <a:t>Re-imagining the Church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  <a:ea typeface="Tahoma"/>
              </a:rPr>
              <a:t>(Nehemiah 2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TextBox 5"/>
          <p:cNvSpPr/>
          <p:nvPr/>
        </p:nvSpPr>
        <p:spPr>
          <a:xfrm>
            <a:off x="395280" y="1916280"/>
            <a:ext cx="8353440" cy="56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Lessons from a Great Leader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1 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	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Listen to the voice and heart of Go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2 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	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Establish a clear sense of purpo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3 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	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Develop a practical strategy for                    achieving his purpo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4 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	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Action - individual steps enabled his purpo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5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5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5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4T07:25:14Z</dcterms:created>
  <dc:creator>CHRIS BROCKWAY</dc:creator>
  <dc:description/>
  <dc:language>en-US</dc:language>
  <cp:lastModifiedBy>Mary Parker</cp:lastModifiedBy>
  <dcterms:modified xsi:type="dcterms:W3CDTF">2012-01-16T12:51:38Z</dcterms:modified>
  <cp:revision>12</cp:revision>
  <dc:subject/>
  <dc:title>PowerPoint Presentation</dc:title>
</cp:coreProperties>
</file>