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55026-794F-4DC7-8723-0A517056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0B607-7B71-4B5B-8192-B0140E7F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BA5B7-E950-4783-9832-C0ECFEB5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9DB94-6EFC-4570-897B-A9F67515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8BC3F-2C96-4922-AC27-EF13A61E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367E3-8DEA-4647-AD0B-C4C7DFDD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23DC3-D4F3-4E3D-BFD5-5B149F19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9E228-1F8B-4785-A3B4-EC5BFD9B8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FDC9F-6AA7-41B6-A7F2-61EE5A20F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F64BC-EA33-442F-995A-565BF98EF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0E855-DC32-4A96-8F73-AB3258DC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C5C23-6195-46D8-96C4-BD1FCD42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81F38-DCC6-4F92-8231-66E47DD8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7666E-02A3-449D-8A4F-E454D1E8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85A1B-5E5A-437B-AE82-2AB4CD65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BCCB6D-D15B-49A2-8CB9-830545C5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039E7-5B05-4414-8751-64C6CC2C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52F01-F19C-43C6-8636-5546F28F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124B2-51DD-45AD-8F1A-0D75E724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05853E-3F7E-4EC5-A79F-491FEFE16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6BE05-0143-43D7-80B4-CB2A6E8F7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202B19-02B0-49D9-BD06-C3CC40433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CA22B9-F8C3-496B-AEAB-51658D10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C21DB9-E9AA-4B53-8CEA-BFDF542A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A8592C-D124-4582-AFC2-807DDC1D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D38735-6220-4AB8-A87E-8F56F72B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076C94-3E3D-4877-8B65-34FD427F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04C0F1-156C-4C78-A84D-C0ECBBB2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F14977-23F3-4F91-86A4-D21C60F9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8A4E16-A8B6-46DB-99DB-C1EB9012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4A4A-E2E4-4307-9AED-69DFB1ED1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641C3F-AB4E-424B-A1A8-03DA282F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40C9F1-B717-4DF5-BEEB-50639AC5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1E43BC-A0BA-4118-9F96-677358159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3E082-2B7A-4838-8A75-3318599D0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C8D89-7A4D-447E-B2F4-C2749BB2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D4ED1-0F84-4512-8CD8-87D64223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64F98-5A0B-4613-A873-D5D75BE8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D85F64-4941-4CC8-B1B2-DC34B19A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FCF0C-A4AD-460E-A8FC-80689CEA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02C6E-F1B2-496B-9452-ECD76E38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3066-9BE8-4453-9FCB-19AC01CC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8294B-D2CC-49CD-AB83-91E93F92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A6F10-2BCD-4CBE-B67E-E5AB3B8C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89241-2A8A-442E-845B-C554DBE3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533C4-16BF-45CB-A4A1-DB876F0DC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246BB-A5C2-4202-B21D-27A7F3803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9F0E-B911-4FE9-AE36-0AD84DAA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D531-FB5E-4C49-9D50-88AD7A4C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81D9-A1EF-4D45-A3BC-86F315BC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6857-768A-4F7F-8BB7-6C46FD6C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74DD-DE44-4666-BEDD-959F8959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C6DB-006F-4167-AA3C-5115598D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2E25-4F0D-4CE9-90EC-D2E87FE8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2C7E-000E-4F2C-8E3D-ADC41D2D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5216-C050-4461-B997-1C86718D4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EEB8-0CE3-43C9-8547-B4E8CE04D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648E-A656-4837-AE18-DDFA2A6F6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40E5-311E-4EBF-AA3A-E2D51D51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7996-BBF1-4DB2-AA98-A137D01E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65B1-4FE8-4C9E-9817-3C152EC2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A700-B894-440A-8153-AC199ED1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582A-0194-439B-87B3-1924FE56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3579-2422-4606-BDE3-F70EBB1B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0FE5-9039-4FD5-BD07-2178083D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10EE-47EE-4082-8377-7B6428EC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C0F4-6325-4909-A0E4-10E72609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424F-D2E3-4BE5-8D36-FC6129E28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DBD3-DB21-4E7A-B142-68EA5E375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CEDA7-430D-4F71-9A22-EC8B4E562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6B9F2-09B1-4C24-9AEA-0C6C98EF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F5EEE-E6D0-4C1D-BCB6-B8FE046B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58DFD-61A3-4FB3-9427-4EE7829A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A351A-226D-4BFE-8576-8E9D7E87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AE0BF-A029-4DB0-B081-714CFA64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BC681-6D2A-4D5D-A179-17916A10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46CAA-FB9B-4758-876E-67026002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13165-92A1-4D6A-ADFF-FAEBF26C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52479-456E-47D0-9606-12421E1E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28571-19C7-4FEB-9E14-782C99F61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32601-B51E-47D0-B661-B5CF55DAA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F583A-C380-4356-A6B5-569960F84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92ED0-B4AA-4616-8466-B09C1401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53295-BB5C-40A9-BD5A-AC766A7A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82DBB-670A-4A08-A1CC-3E1A213A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616BC-4141-4009-8937-8C5BB4D8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693D7-3A0D-41D7-B7C2-4D9BBDB6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20BDF-2732-4A3F-8243-4F57142A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97E8C-D6AE-4880-AED7-7B9877F7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08610-6BA6-4FC4-9DC3-7D2CA978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1618F-4CD9-4279-A447-9A5025D2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5CC23-3851-424F-B290-3C5D5E8A6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16112-BE67-42E3-AEBD-47D240764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2A3B8-4FA7-40AB-85DF-EB3A779FA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E71FD-851D-400E-9B58-E2A47894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09B23-73BB-4938-8BD4-C044CE27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E036F-8697-4AA0-8369-450CE2B4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FCEC6-C4F9-43D0-90E5-9EEA0A3B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5DFCF-8D78-48C9-BB6C-20A396DC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E00AD-EAC9-4353-A607-1F370CD4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4BC50-FA22-40F6-8948-AFEDB003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D83E5-1360-4983-871E-1A28C103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151C9-A2F0-4743-9E89-4CE4B3BA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C1769-011E-4D4F-8CBE-0ED8BF6F2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69091-FF7C-42AD-9211-C79032047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B6456-FC69-4FAE-BC67-954ED9BCA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7BCAE-863A-4CC1-880C-5C9558D5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CBED2-69C5-4805-A365-FD4CCB51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731D7-465E-4710-A060-F6466828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2F953-9A1E-4AB7-94B3-EFB82074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1BB67-76B1-46D7-A456-B295F5B0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6C51B-6F5B-4A14-AA56-29EDCAA9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47E9D-75E3-41C9-A6E9-28CEDBC5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08726-2B24-474D-81F1-903CE299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9352D-27A5-41C3-AF9F-2E111C73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8FAF5-F3BA-42D7-ADC6-6DF3D85D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3C868-2D56-4831-98FB-1C60E44FA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FC032-206D-4572-B33E-708F6C823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EF440-A51D-4E3B-A8E6-A927A3A4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C7B92-BEB3-45FE-9A3D-B1AC22B4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38D8E-AD43-4DFE-8D0C-7B3F9ACA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03072-C6DB-4520-BF7A-D64B1D43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83577-AA05-4C3B-BA62-8D68FD0C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B5037-94F4-4085-9C68-2479DDA3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12B65-4665-4F48-A361-5DF3179B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EDEB5-1685-43EC-B2FA-232BB498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95F4D-6E42-42D8-80A7-69E528C4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B9A93-CFCC-4F80-82CE-CA47572EE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911CA-A2B3-4303-9A6F-58F3DF387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05C52-5ABF-4E23-A103-52E99A67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E209B-D22A-480D-B3AD-928362F5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437CD-D5ED-41E5-99C0-4E75D1E7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8D77-24B9-498C-92DD-DFF5F1AC454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050A-D6A0-4A49-9A65-78D2D2ABD1A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87BB-62E8-4424-9DCD-83235B6AD70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DC03-C688-401C-A5CD-595D8F9D6F8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5452-7C74-47B9-837E-364B9794EDD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E5AD-C080-4E36-9EC6-4D38490777F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F034-DF6F-4C60-A835-977CA8154A7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0929-AE2B-4E74-8113-1BFE96CF475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2A3E-104D-4BD8-952F-ACE90ADDA96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8CAA-DEC2-43FB-9E22-98D5E5BA4BA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E817-6771-4DC8-B5BE-4846A4DF8FE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Getting A Grip On Reality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539640" y="1844640"/>
            <a:ext cx="7712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ithin the last 30 years the world has changed dramat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change has consequ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‘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Insanity’: “Doing the same thing over and over again expecting different results”</a:t>
            </a:r>
            <a:r>
              <a:rPr b="1" i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(Albert Einste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Getting A Grip On Reality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611280" y="1844640"/>
            <a:ext cx="7640640" cy="52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 observes the culture surrounding him (v 16, 2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 preaches in a different way                           for a different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Our God is Lord of the ‘different’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0:46Z</dcterms:modified>
  <cp:revision>8</cp:revision>
  <dc:subject/>
  <dc:title>PowerPoint Presentation</dc:title>
</cp:coreProperties>
</file>