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8E2287-4458-4F9A-9FD3-B9CB15EE7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5560D3-26C8-420E-AF13-DC077793C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09FCA-70F1-4AEA-B8DE-406ABC245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D9275-9234-4AAF-B2A0-4074F5A2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088540-099F-49AC-8679-C97EFE32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FB1EDE-5061-4B4C-AA3F-82B53DC9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D88CE4-7661-4FC0-893F-141553A8D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1B1FB2-C356-49CC-B0CC-2EBB64CF1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1ECD4F-AD01-45F4-A6DB-6A1F6789A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414017-6FC3-434D-80C8-2919513CB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117037-3929-4E98-8F09-C0345D0D1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E11FBF-96E7-40D7-A405-3C23F1D47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7731E4-FA2D-4673-BE68-5203ED2AF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D8F329-A37C-438E-B442-BD1E9A72A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4BF5EE-3D0C-4BD6-B39F-434FFF1DA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835BB4-8EC2-4AA5-BE38-22C6BB14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CE9EAF-B766-4582-913A-E0138D2B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9C6E1B-D43B-49B3-AD6C-5F669DA8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A768D5-2E7E-40B0-AE6C-A54165E9D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1CCA63-6393-4BBA-A786-8954BE6FA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FEAAD1-B23F-41B7-BA09-CE98A77F2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787147-0707-4CF6-AB48-673A11727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82BF31-F6A9-4E33-8679-7D07A1CFD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EB9ADD-9FC4-4730-AE85-5EAA4FF7E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7BF8D4-3689-42D3-A64D-3133211A8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721570-5E15-404F-AEA7-B35F5772A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98480B-F47A-4732-9F81-32B54A808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D48326-E917-4E3E-915F-ECD0B0C0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AFE773-BEF8-4311-9DCE-2770FCB0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B26518-407C-41B5-9242-D5324089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6E10-C3CD-48E1-922C-9FA2EF957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2FE08D-EFC1-48D6-ADFF-261500E56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1FF0E7-B8D0-445D-B19A-42E3F1E66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1FEA41-B97F-4D06-AE62-D8DDBA215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FCB06F-29DC-4888-8B3E-98840883B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330D27-6103-4763-BE1C-873ADBC96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4B5BFC-7502-480F-8B74-3499C1667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F6BE44-A683-41AF-9837-D44CBA4A7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D574F5-7915-4576-93F8-87F4A01A6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30D69B-D196-4081-9182-5C7DB0784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4331D3-2899-4815-8510-2868FCC8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2850-1A32-4F0E-B890-3BA71A2E2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8256AD-A987-4576-9A8D-3809384D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03C3ED-3E86-43B5-81C3-DADFB768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E105A2-F5C4-4390-81A8-64EF4F41E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4F8AE1-A05D-43FD-A12A-9332BD93D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2F8BCD-C64D-40D7-B9F6-BE0EA033B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4F1D-0494-49DA-BA98-ADF7CF2BE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EB02-1510-4049-888D-633BF9D0C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A378-2454-46C3-B3EE-19D8E58E9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1AE2-8B99-4C52-A5FC-60A15E8E1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1E6B-788A-40CD-BD21-6F3C4718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2294-3321-4947-B070-47E7124B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1843-EC64-435C-B4AC-318B8F31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5BFC-5654-48CA-97FF-AF882383D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0FBA-840C-4A3C-AC25-8A6B8AFFF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6AE1-7119-4030-9067-FD2298F0A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6447A-6D55-471E-BB85-61F1A6C80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9E66A-6EE3-47E5-9D0D-4A674F5A3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E7895-B051-4A23-9964-451280821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09DCD-CD3E-423C-8C43-248996F65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4130F-1B97-4F57-936C-0065471E5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F93A2-5B03-4847-8DB3-F44C68398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A5B22-3ABE-4DC8-8B18-C6125776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0354B-49AF-4578-9D33-88299D34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72D96-C9E2-448B-ABFA-18924233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27043-D2A3-448A-B292-D2972BE14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A85E5-D87E-448C-BCA3-71B2F63EF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E5582-D94C-4923-8B4B-BC73807F6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13ECC-BE5E-434D-9E1F-E9CD28BED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9F6E2-6715-4A02-8442-03F9E7AE2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FA1DB-1FBF-4F70-B6B8-B08F118D2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D05DA-8F93-43DA-8762-B0A6A98DF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81450-5665-4D5A-A6CA-4F386DFCD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F934A-DCC9-4288-9D20-FC72AD6FE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3AE8E-AE92-4367-A2D3-970401B9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1705A-2AC2-4AA4-8FF6-7F488DDC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A21B9-C412-4953-B8E6-AC4B308F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27B8E-0E43-4E78-B85E-146914712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EF17B-D54C-4476-9824-63F84187E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71CAE-2390-49B3-87D1-DC43A66A6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C9AD5-FA5E-46B2-8501-6582AE21B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0A346-FB92-47CC-830B-0F3A52B65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67A32-DC0C-4A08-BA29-385BA5CBE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BBDD1-3314-4E9A-8939-78F5F4680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E4503-6B66-4739-9580-F9F56C4B4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0D770-5FEE-4E91-8D5C-3DF5A13A4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E4F78-0965-46C9-B22D-B2C429F6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29169-1EE1-45FD-98AE-C1CCB8D6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CDB0A-715A-41FD-9D97-93725319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89242-7DBB-4662-83A1-72551B3F6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908E8-B91D-488E-919A-1A3568B58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F85AC-7044-4854-8F3E-FF2B6C7C0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6AC3C-9C61-4989-A0FB-34DAB660A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8C695-3DB2-4020-B6ED-5774ABDD9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0CC85-4C08-45C4-B8CC-8605AE457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9AC31-A684-45A6-B131-8CFDEA12C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AE2A1-7718-4E23-A672-12EAFC2E7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56146-7FB0-4DB7-886A-B5B5C3490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7A528-7317-49E5-A17B-FAE43394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C24F1-A77B-4216-9791-08E0028D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25EAD-34B1-4FA9-B9C8-CC235883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989D9-7FA2-4C3A-8E54-7831D9991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14C11-5B02-4FF8-9CAD-754A7DE55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14A2B-2F98-4AAE-A06B-5ACE39BEB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32A6C-3210-4B15-8D89-1ACE89DC0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2C4238-DC35-4826-B530-7B3AEC62B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867EC4-B854-4ABC-841C-BC4F40E56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A713C-4896-48C4-82EF-1D888563A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431FD-FCA3-4BE5-AB23-D5CA63611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71877-2A8A-4665-A67F-D0BFA3413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5675C-FD91-453B-B903-DF27933D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E5677-EACB-43AC-B5EE-525090FF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6CEB6-419A-4C29-8906-B90A68DE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EDDD1-8DA5-41DD-904F-F3B368399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903AF-11B3-4DCC-98C6-6F573C381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8FA42-C2CE-4A03-91FE-DCEE8E7A3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0B8347-D04B-497D-A8A6-8A61B7CCA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082576-3D2D-4EDE-8F8E-F745BAF08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4D1B8-A91B-4610-995C-83AEF1E44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8E4C8-1CE9-4493-BA91-917407A2A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1500E-35DF-4F18-A018-72D924714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F6B05-C76E-4D2C-9107-A1F77FA67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FBA2C7-DBE8-497F-9CE5-DF28E6CB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60CFA3-5F3E-43CB-A0D4-B13E12A6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1FE15B-E789-46E4-AAB0-2F46E7D1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30D6C-584E-4786-A2C9-5BF0518AD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B5538-FE9C-4FF8-9412-D58C835C5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3EAFC-38B7-4EF5-8275-F5ED510EB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7D453D-EED2-4A48-B9D9-C9EC89A0D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192D2C-C811-4790-8944-1334A108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7D6B6-EE55-4684-9EB2-AA7875A00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148EB-21F3-4E9A-825F-2CE619D8976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34CDD-8CCD-45AA-A245-C35AD451B9C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8D7B7-EB12-4A09-82B4-5DEE547F3AC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A5DC-E4F3-4A79-8FE7-9C0043972D7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756CE-0E62-4C3A-904D-7FB7B128175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DA90-7F54-48C2-8DCC-93E04B2DDB5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078E6-0537-486F-B689-F5C8FA66C65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9F96A-D389-4B31-B27B-1FE0FB98841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85236-D9FC-4052-901C-294FCCA93F6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14703-1CD6-4F81-BCB0-C35CB25475C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01B31-471B-4167-861F-43F3BF29A64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Re-imagining the Chur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Nehemiah 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395280" y="1916280"/>
            <a:ext cx="8353440" cy="56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Lessons from a Great Leader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1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Listen to the voice and heart of G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2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Establish a clear sense of purp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3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Develop a practical strategy for                    achieving his purp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4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Action - individual steps enabled his purp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1:38Z</dcterms:modified>
  <cp:revision>12</cp:revision>
  <dc:subject/>
  <dc:title>PowerPoint Presentation</dc:title>
</cp:coreProperties>
</file>