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0EFDD-3967-4DEA-A65D-DE35EBB1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5299B-D9EA-4D47-9C69-D36DA8E4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D8DB2-04BA-498D-8ED0-A7D147C4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105C3-14E8-4D1D-937A-552ECAA9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E1A4A-4E8C-478F-B962-2E1C099D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D0788-8D97-4A74-A639-DDC19E77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89F42-AF62-45CC-9C8E-CCEEAAEA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7CA2A-45CF-4B41-848A-78841847E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FB940-007C-42D4-BB0F-8B660C2BF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4BEFF-36FE-45A0-9CED-C714681CB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8DBA36-0764-46D8-ABC7-0A9214EC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095500-87A6-445A-A3B5-8E26B754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04054A-96E8-4426-8ECD-CD3FC8BF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94363D-C7FC-4343-99F6-19754DA5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EE6C4E-4996-47CD-86FC-976C41AF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7A2194-573D-4AD9-9F95-742DC28A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E8811-CA57-485A-98EA-F09CDF8F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5EBCC7-F43C-440C-B534-49780FD7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049559-0B02-4525-802C-4933182C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BEA0D9-4A2C-4D14-92BE-621D08DB0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78204F-B79E-4AC7-A31E-31DF57EA1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7DDC4F-64DC-4A3F-8E89-C348C5F3F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DCC89C-E1A2-4F37-8346-6F56A01D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186678-7A36-47BF-9C0B-6A02AC95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0035E1-391C-4059-94F0-0E5AD474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839A83-A8D1-4178-AB01-FA8F69F3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A9537-1EEB-4F97-A8FD-872DA4F5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AB2DD7-CD14-43AB-A729-64C1128C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D79746-B7EB-4A8B-A13D-1A3256A4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407E11-B50E-426B-8305-33AB7916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04B1-D31B-4B5E-8D97-F49B06A00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9B97F9-D604-4667-B95B-D1DB08B2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0D8FEB-008E-4CCA-922B-B9E2A67CD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A5D17B-7BA4-4E21-A8C4-25957D863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02056-F74B-4AFB-91AE-E0744BC6D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AA406-7B0B-4E3B-BA19-C53A4C53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9429D-75E8-4FDC-91B9-DED3E793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C93FE6-83F7-41D8-A4C7-B43B7D6D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EE3D0-6F6B-4A8D-8912-20B8A914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4DE18-2480-4D69-B4EB-F60F5AE0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DC606-BD13-4AA7-8C5C-4835C010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7384-F133-4492-8513-9B511C9D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24CA2-B571-40CB-9441-C50C2287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CACE0-E2CD-4F4B-96C2-6260A35C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72F732-27D2-40E9-9AC4-53582DAB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856074-CA62-4BF7-A914-32ABDC47A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001EE-115A-483B-970A-B15D977C5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7815-1850-41E7-93A8-E2F21B23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F51A-72F5-40F5-A928-AE8047B4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921E-9360-443C-A777-5BAD3FA0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8494-7B5F-47E8-BC91-03167D3F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EB27-40C8-45B2-A601-91523E7C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EB2B-9987-442D-A5D4-015D0D66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303C-2539-4955-A064-03E757CC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D2A8-CEDC-4D86-B938-7FF9CB8B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F0D0-26C7-42D4-91C4-0CF18E4BD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E245-D5F1-4E5D-A1E3-1EF394534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FE68-288C-451B-81AA-5714995D0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2080-19A2-4C71-B3CF-E04DFE12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4CC2-43B2-4F9B-8789-4ABABD19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F046-9668-4DF2-8751-D13A1B15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6759-8CC5-420A-8425-1E5CBA77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4F13-760D-4FC1-B525-2A76ABBD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35D7-FB9A-4119-90E1-F7775FA9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F89DE-B02B-4097-A54E-93504FF4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A933-8C96-46FD-A50B-7DFD38DD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7713-FDBE-4038-9780-B4097DFA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823F-8E08-4DC8-81FD-33272E176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658F-4C99-4A17-AE67-756731058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152D2-E17C-440F-A2B4-E61B76C35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23189-23A8-4F75-A79C-0B590DA2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E0D3C-1833-4875-BC02-F4ABC296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CD303-2507-4F13-B6D9-ECF1EE00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FE359-3701-4E5C-9DAC-1C452949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C0878-AFB3-4976-859C-53062894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341C2-EF67-406A-B0BF-E5133A88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3EC40-3356-4BBC-B0DD-641C74C8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732EE-2CA9-4A73-BA7A-60B0D738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F964B-A189-4BAF-8F42-749ECC0B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45CAA-FE2B-460E-905C-68B6F096C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F6BF8-05A7-47C6-A5BB-19282D74E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E77E1-907E-4EB6-8419-0A8B31EDB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DF093-F721-476D-AC34-E3AAF3A6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1AF02-6EDB-477E-8425-8DE8880F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BE801-E771-4432-A9D8-8A9A0358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CEACC-C9BC-496C-AC64-D0915820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4817D-5249-4FE5-86F0-00E86D7C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5719A-5D05-4BEE-905B-FBC31C26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3D39C-44AE-4A51-9B46-8505200E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4B278-653E-475F-9F90-2490ED63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10A03-3ABA-4C45-9145-11CD1CE9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8B64E-73FD-4F8D-83FA-22FC9A0B9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66E57-D4B4-47B1-9237-CAA74D632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9503D-FEC9-4A87-A6B0-60EFBADCE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F43A5-8213-49C7-8875-25C6523B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865A5-4769-4828-A7DD-052D324D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1BA7D-632F-49A1-8C11-16A76F9B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A1995-D678-458F-ACA1-0527CA8F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65CD1-5DE1-4133-8D51-3161B922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8364A-A0B5-4CE7-8336-0B3C8B0E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1D5F4-457D-4965-93E2-8BC73659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A94C8-EEAD-471F-8C04-B6016D90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0AC3D-3144-4C46-868F-3AB34CC6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746DB-79C1-4733-9C9F-B93006C38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7BA01-0783-4F44-954C-766C1DC9A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A42F4-8548-49EA-A07A-5171BD667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8CE9B-4B46-43C3-ABCA-728FE436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072F7-3D59-453E-8CBB-3515D53F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39DA4-1EFC-4F2E-AA75-BB699E84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0C432-BAF9-4344-9A91-41354FB6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06131-4087-400D-B2C0-D25880CD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F9732-C67A-488A-B6EE-8110392A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4AFC2-D2CF-4D78-819F-CD2A4FFF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07D8F-27F0-4124-9E01-DB93187F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BDF3C-1FFF-4682-93DD-D7B9D37D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53842-7311-42E5-A271-9D5AE9E86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9BBFC-478A-4031-A65D-B6FDE083A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58A9F-CA08-4FC6-83E9-88BE1C435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53C11-5658-44C5-8D30-1C1C23FD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507F9-6AA4-409F-859C-03CCC214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2D3CD-DF86-4367-866A-93649C2E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D8E1E-4129-4968-9CD0-D10660AB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E3228-2ED8-4C4F-B882-FCFB92DD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F0BCD-77DC-4CEA-9465-CEEF6F3B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A0804-05E6-4A8C-AD4D-E48D5027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4B03F-D7F4-427E-B2A5-2C70FD8E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954B2-031F-4908-8B1A-A9C16594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720E5-9FFF-4CF7-BB9B-F7E897E1E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2C144-FE20-4D79-9916-ABB7DAD74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1020A-69D1-464D-9021-DF12F607C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EEBD2-BCC1-417D-9A0E-9DF2401D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E8398-98AC-4725-B03C-B613A7B8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5AA4-AF42-4242-8E98-5F580448576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0B2C-F287-41F0-B0A4-49AEC0EB8B0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4381-9066-4645-8D44-C82CA51073B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4187-8756-463A-89E7-865075BF3EB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FBD4-753A-4BCB-8448-00F6A424128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1FC3-AD94-44BF-BFB9-48434153732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FED4-D553-4070-AAED-242EA7F5D90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B2BB-FD00-4953-B3EF-DD6FBFD8D74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F176-B89B-4567-AB72-FBDEF6A02A7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E706-2622-42AF-948E-6453B0BBD1C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1551-5B27-419E-96FA-5D26603511B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Getting A Grip On Reality                    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539640" y="1844640"/>
            <a:ext cx="7712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ithin the last 30 years the world has changed dramatic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change has consequ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‘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Insanity’: “Doing the same thing over and over again expecting different results”</a:t>
            </a:r>
            <a:r>
              <a:rPr b="1" i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(Albert Einste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Getting A Grip On Reality                    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611280" y="1844640"/>
            <a:ext cx="7640640" cy="52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 observes the culture surrounding him (v 16, 2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 preaches in a different way                           for a different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Our God is Lord of the ‘different’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0:46Z</dcterms:modified>
  <cp:revision>8</cp:revision>
  <dc:subject/>
  <dc:title>PowerPoint Presentation</dc:title>
</cp:coreProperties>
</file>