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DCD782-720A-4E0A-8F2D-62D7754B8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1CABD0-0C01-4F62-8A06-FA4E9A4BD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72C368-E19F-401D-A953-800220EC2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AD13D3-0C41-4FA1-BC29-13BA27DDD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F7256E-E638-406B-A740-D1BF3A2C8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8D8067-2346-4B74-8FEC-0B200B172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8D98E1-95E2-476B-8F23-5B3CFFA30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A51865-854E-41A7-8F89-529EA366B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554C95-92F1-4F29-8354-2AB87CFB4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A6D628-EB47-4063-9F3D-6B84D8FB4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D7F35C-C3AD-4128-A8AD-1FA5DE596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5838C2-CC21-40AA-BA96-102D96784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6B0900-7CA6-4B77-A3EC-82B5809DE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A3A1A8-F6A0-47AC-AF07-805122DCC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475D75-6F67-4798-B5B8-2EAF12586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E3317F-111A-46ED-936C-0E9AD9C4A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1900A5-4103-46A2-857C-8D3134888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7CCEFF-9B03-455D-B63C-0FB311A3A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1824B7-4BF2-491B-ACB6-D49704A63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8A46DB-4FA5-44D7-91EC-156BE3CD5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AF104B-CE14-43AA-859F-A2A953B3E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0D9B37-AF48-46BE-AF30-3E885DC79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27C571-8960-4F47-9BB1-FF8F25D55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F10924-AE07-4B07-B459-AA18E7DEF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30EA8B-7761-460E-B041-B9E6B1AA7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B1E5D6-ADE2-4F67-882F-A1DA6CE40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5F0458-CB8F-4F8B-A30F-035278002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D308E2-A527-4DE9-AACD-41878B617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393F6F-1CF0-4C25-A41F-A41BB04E3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F56CB8-AA2B-41E5-96BC-4165F93E2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F0CEF-FA19-4F10-B883-FBA232CD1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723D8D-6817-4862-8D37-CE5A071C2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2F3F74-B958-4F2C-8D9A-FA031B987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2B1C4D-0CE4-4E99-9D85-5A2CC09D5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9CE8A1-E51A-4A62-BEEF-336820908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28DCF1-8D36-411B-813E-A903DE72B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D7E422-5652-4B26-A8B5-DFDD964C2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FCDFE9-0890-4ECA-8970-D7090C6CB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1B6793-DFA3-4E06-ABE5-058628AEF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132816-C911-4D78-B60F-196A2A1AC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164E98-DC3D-43FD-A2A8-45CAC6A2A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D8037-FB5E-4241-8271-32B3F27F8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377028-BC5D-479D-8A19-3842729C2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46762E-2C6B-47BB-9C09-9A302E21B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754F94-54B8-4ECA-AA29-DA1B5FB49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F5E070-47AF-44E9-B87E-DF308EE86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A475FB-136C-4A26-A7C0-0EEFC57F1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50F19-8A20-4615-A0B2-8489931ED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B3E5C-EB02-495C-A7DE-91CF5156D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C716B-96CD-44B9-AD7D-4B1F88291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A36FC-0EB1-4471-AA40-704F842BF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433A7-B284-43D4-9722-788232AAD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E6B35-B704-42C6-8E34-F4D301B8A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933F8-3E29-4DB4-BE2E-0FCD756EC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8B2ED-AA0C-49D9-A5C5-5ECF45949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F3EB5-5795-43A1-AAAE-C808F323A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69D27-99EC-4A8F-88B3-30C39AAFC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FC0FB-ADE4-45A4-A7CD-9A9D40736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743C5-B3AF-4AAD-8442-2C92B7399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82BBE-7118-4D67-9020-86670DFE0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01F70-2FFB-4210-A52C-6775E6DC9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0D35E-3E31-4438-BDFA-86B14D59A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73C5C-2165-4501-B458-0DF864554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8E260-8029-482A-9F86-6DFC91FBC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D09EF-A213-47FE-918A-891F4D5C9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EAA75-05E9-4192-9FEF-A784EE3DF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C7BE7-5863-4776-98AA-F0BFA3C48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E17B7-4F9A-4E0C-8ABE-DAFE9E87C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DB4A4-956F-4969-B688-6FA716695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6674FA-5B09-4014-B10F-47A63CA6F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495AE2-02B2-459F-9885-2C6D26971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2ABFA8-0A85-4A11-9274-22CF09112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C83454-AB94-4F21-9776-476D13633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2478D0-C074-41DE-959C-93EDD707B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CF9691-4376-4129-A2C3-71B463E11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1835A8-17CE-4CAF-A4F5-E87B98CFC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869618-B2AB-49DE-8605-8BC3DC2F4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2E0ABF-E93A-4DE5-BFE4-1259E8885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5757A9-D5EA-4730-905F-8BF16FB6B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AE21A8-24BA-4A75-AAB3-93054B092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1A734C-9793-4E3B-8040-D74195C27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3E7B22-613A-476C-9B37-102361935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72A48B-AD82-4A20-A593-793CE8D94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2C03AE-8FDE-453C-931F-25DAF2C84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21B324-6977-46E8-8823-80264D4B0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5F4D97-8402-454A-B636-F0CB51C18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CD9886-ED74-4310-9060-E57046EAD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68961D-11FC-46DA-9752-66CA7005E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AB9FF7-35AE-4EBF-83F7-D20709FE8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1E6AA7-E019-4989-BA1E-7DED26F90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B9D6EF-6FE5-4742-A068-2EA42EB65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84C8DF-1FA7-49CF-8E43-84499EC1A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B257E9-6D25-463C-8B88-4D3AAF895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68DE5A-5FEC-4AF4-90DD-9F7271643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E6934F-89B9-4943-963C-46D70C8D6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AF887A-9549-42BE-8B14-23C32542A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B6D278-7B27-49A2-A000-459BDF882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35BE9A-8BDF-49DC-B268-427FB1B5D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F1D365-3FB7-43F9-A0EC-624C002C1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7E15A5-07A1-4672-A0FA-EB41008FF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365FF1-B31F-40E0-9E99-8E6DDA5BE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BD15A5-970C-42FB-97E4-A1C7FA345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1A5D1F-DA90-4AC5-9259-A5129748C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90E6A8-43D6-443E-A0DB-2EE66C01D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F5F6C6-64DC-405B-B7E7-B17C7C4AF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B79D9F-7EC7-40FC-A6B5-B658DB367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FBECE2-2BB6-4F08-91E1-EFFC88C59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3FC50C-07DF-4571-A355-0B25D9FF4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572933-59C6-4CD4-84FB-78C7C1CCF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0C9D56-619D-4872-9A7D-41304BE90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389DA0-C578-47D2-AB4E-965C9D617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61FE2A-E8C0-4A16-9655-D93BB3C74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906428-4F2F-4634-AC61-7D5733E66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43ECAA-6698-43CA-A568-48878B374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C6C1FC-BD4A-4D74-89FD-E865EC3A5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8F5FA4-E203-4120-825F-0E05BC37C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33BCAA-2916-4676-8990-5803FEBE9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43025B-E6F2-496B-84AD-0DE0AFA97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324FC5-0607-4F22-8A2D-E03A08697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C86647-A871-4C5F-AD8E-4BA156085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AFEE73-C9F6-45B2-B9C5-FE91E6511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19BE4E-5659-4029-90BD-70CE9D0AD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AF4F33-051B-44D4-854B-73C703DD0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30A94B-4DEF-4C3B-9A90-6D2CA71C0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2FA28C-D6C8-484D-8DDE-7EE28D323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DFFFE6-5A7D-4AA7-928C-2C3C4BC4C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BC8AF6-582C-4C4E-B9BC-EF6E84D6F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4BC582-6DE2-4573-83F7-24EBE6657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9EC7A6-0328-49F5-A0EF-7FA80103E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42BCD4-9C24-44E3-B496-2A2FA7F48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DD6192-0FDB-40DE-BA2A-ECD33A5FB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752FE0-C3A1-4967-B8FD-66BA30481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379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9BE84-04BA-4AFC-9FAB-3DF7337A84EB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21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6823F-66F7-48A6-9279-19CA603A4C56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63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9DCDD-DFE1-4D6B-9429-76F8D1CC08A6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1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EF10F-9A43-44EA-830E-62F8B2DD947C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83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128E4-5B2E-4978-917F-1604DB356C39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127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FE926-B82B-429A-982C-4C31C3D08949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169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B9D22-C092-4B83-800E-B06172A11697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11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023EF-2134-4DDB-A0C9-925B46C1D1AC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53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C3FE5-09F5-49D4-936E-1D700B96580C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95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86A9A-8CDF-4623-A5F6-CC0234CE22A6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337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6E344-10AB-46D8-9272-2D6AA3ED11E3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TextBox 3"/>
          <p:cNvSpPr/>
          <p:nvPr/>
        </p:nvSpPr>
        <p:spPr>
          <a:xfrm>
            <a:off x="0" y="54936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Tahoma"/>
                <a:ea typeface="Tahoma"/>
              </a:rPr>
              <a:t>Re-imagining the Church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  <a:ea typeface="Tahoma"/>
              </a:rPr>
              <a:t>(Nehemiah 2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TextBox 5"/>
          <p:cNvSpPr/>
          <p:nvPr/>
        </p:nvSpPr>
        <p:spPr>
          <a:xfrm>
            <a:off x="395280" y="1916280"/>
            <a:ext cx="8353440" cy="56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Lessons from a Great Leader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1 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	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Listen to the voice and heart of Go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2 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	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Establish a clear sense of purpo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3 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	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Develop a practical strategy for                    achieving his purpo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4 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	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Action - individual steps enabled his purpo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5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5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5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4T07:25:14Z</dcterms:created>
  <dc:creator>CHRIS BROCKWAY</dc:creator>
  <dc:description/>
  <dc:language>en-US</dc:language>
  <cp:lastModifiedBy>Mary Parker</cp:lastModifiedBy>
  <dcterms:modified xsi:type="dcterms:W3CDTF">2012-01-16T12:51:38Z</dcterms:modified>
  <cp:revision>12</cp:revision>
  <dc:subject/>
  <dc:title>PowerPoint Presentation</dc:title>
</cp:coreProperties>
</file>