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A5522-8282-416D-98BA-06CA27C9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807D9-7B33-49CF-AD04-CA3D4ECA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95BE9-E73E-4A17-96F2-5316C5F6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303E6-E349-4175-97DA-BFF60D62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15F91-3BBA-4B4B-A39F-1BEAC23A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5C8C7-66AE-49DC-829E-F709A899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D6765-99BB-4884-AC2F-FF7B4867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11095-8E42-4165-B04B-BD7B99A7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255D2-2990-43B6-97ED-510E87DD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A43AA-A875-425B-97BF-BFE153A7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BD163-179F-4A22-ABDF-A058CBE7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75B58-A3AB-4E87-99B3-B9CED3EB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1AF97-A92F-4968-927C-D2DA4970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8D380-FD34-440D-86B9-8B6806BA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409D5-69B2-4836-84DC-CAEDB14A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4A78C-3ED4-4DAA-A372-1EC0C053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A9ECB-A29A-44C1-A190-2B921BAB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6E8A2-7FCE-4DA9-95A4-E525F895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51B5C-9A9C-4CE1-A58A-CAFF3B0D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57FFC-64E7-4117-AFDA-E61C4050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7AEA2-40A8-41B1-811B-13374122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0CD93-D3C2-44F1-BEC2-B7BDF1AD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BFCDD-5179-4D86-840D-8828E932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3EF91-7714-4D6A-98D2-9D764F7E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75FD7-8F6C-4048-9225-94CF9ED7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65C03-92C6-45E3-B0A6-F52637D8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C1647-8339-4E8B-8099-C3769E16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2D24F-6B0A-447E-81CD-256B14DF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08A58-87B7-4A8D-9D82-B63DA662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B82B9-2B34-490E-8898-B7D20215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8361-A25A-48B6-AF42-B6272D08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EA887-A7B3-4457-A2FE-FDC949A0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ECB1D-1549-4456-956C-DF1249F8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B9DDE-78EA-449B-9EC0-D8A00287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ADDA9-EB4E-4E96-9F84-FA32CC7B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32957-B12D-441F-9B5E-4E7DBA7A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348D7-499E-48D0-8272-F8A276D4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27AEE-5AFD-42B1-A7FC-F01E33AC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2C32F-D27E-4D67-AAD6-2E187168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2586C-6F57-416F-BF42-701BB922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CA7A1-3FE3-416B-B0FD-E882C797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FF32-39EF-4FF4-B13B-9FC0805C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31FEC-96B2-422A-83A0-4C58A745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DAF25-6BC9-4851-B59D-4C8436C8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0F9C6-2424-40FC-B688-A81BE1D1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19279-2197-48AE-BB52-BEF426DB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1D8B6-D337-4518-A46A-80B4CF9F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C42D-1C4F-4D49-9746-4E80B248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5790-204D-4003-812F-63134406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3D23-E209-4D31-9AF3-DD7845FD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1DCB-D170-45F1-ABBF-600B3375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3D2F-6530-4D21-9FDE-5AAFF9EC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D03-1CD1-4105-834B-3AB3E546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F664-8242-4DD5-A486-98BB1E4C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478E-0203-4A4B-B969-EB90B5D7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1D1-1847-44B0-92B0-9003D9ED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5458-FC37-4D43-ADA3-E16809A5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45A5-7307-4BBF-8D2E-73D98156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4735-8987-4BDF-9219-D59680AA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E33D-6C88-488F-A9B2-E275E364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A41D-A7F4-49FF-B912-06799924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A776-1C97-4A60-9E37-C7460991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A7B7-DCAA-4BBB-BC4E-77E2E168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E663-5DED-4BAF-8DFE-017F9183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57B3-638B-4647-BD1C-382BFC0B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4DD4-827A-4FFD-9D5C-9E3354FC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4854-2BE2-4F80-A9E6-786F738B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3B3F-EE82-4D25-B787-7EC50953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C6A5-258C-45A4-82C9-A67329D3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8C343-6DE4-495F-8A85-65F09E21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B72CF-C969-4222-836A-8131DE5F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2BBA9-3C04-478E-BA62-B5BB1857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A1BBB-3C11-49D2-832A-98AD1714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56A87-81F6-4FD0-B19E-C8D025DB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728A9-F79A-461A-BF19-0A9891C4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EE383-774D-42A4-AC89-226CA273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F75D9-1990-4DA7-83A0-53957A8E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F49D7-77CB-4D19-902A-A2F74FAD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31EA5-BB6B-4E61-9CF2-4F85E2FA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11229-20B3-4B10-B3DC-3CB67646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F68FC-0E33-4EF6-8468-C9D082A0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CA067-C9DE-433A-AD2B-C3F23E99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08CD1-622A-4111-8492-1E23F779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1419C-189F-42F4-8CB2-9AB1304A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51657-963B-4768-95AE-A4B5A3A1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ACB92-62BB-4948-9178-7B30DCBE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5A708-559A-4287-B749-609AF246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AF1FD-0FD0-46EC-8855-1AC2CA54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0BBBE-FE42-4C51-A2AD-F9CF24EF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A7CE6-8E96-456F-8D47-061DCBA4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A51EF-D9B2-4874-8E76-04FC68BF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52ECC-4869-4BDD-9EAD-B089D1F9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5D0CC-11C0-46CC-B38D-16FF57B5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EA397-BFB9-4598-967B-3B3CC134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92A55-40F8-4370-AC01-65305099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E4898-A5B7-43CD-8292-F345C3AB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56CE7-FABC-469D-AB88-C04ED707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725D8-03A4-477A-9D03-0754A1C5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F8A4D-20F8-4A07-8F8D-EACF53CD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2F1C4-56DC-4234-9BEB-C24865FB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87BE8-8FBA-4E25-A1DC-2993B12A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EAAFE-A65F-4E27-9EE8-C11A9457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14083-BCE7-44EB-88AD-D28EABAD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9F523-1CC3-4CFF-8261-E593009B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AD6E6-6BB1-471B-BAC6-2464015E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1FCFD-5A83-4168-8196-82C6924E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63E18-A484-4923-A4BB-8A16420E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E79DF-4F70-4260-BEFB-A043A97A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3EFC2-C6E0-49ED-8A98-7E4D1DE2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5B173-CA98-4935-9CCA-2561E042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3BC46-19BE-450B-9B0C-4855CC52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06F2E-F865-4710-948D-5BC4C137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FF909-6463-4A35-A79C-9784CC69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97422-04B0-437F-BCDB-452A60FD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2B1C2-8675-48C0-92E1-66CF32CC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12B22-4007-499B-9DD8-1D4B5912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2A1B1-3D14-404A-9D3D-44CC2AEF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CBAEF-01C2-4D07-8A6D-B92C4355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90D1C-4B45-4D77-805C-B06922F9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98BD1-4117-4FF4-B67B-10A23BFA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ED677-6823-4FDB-B12A-57A8389C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2593C-A1E2-4A75-96D8-E5E75448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B6647-C25D-4925-91D3-F4836DD8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4E052-3EF4-4D47-A068-7EB8F63C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6B06F-C817-474E-B993-37F036A2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EBC36-2019-472E-BFA2-45DE2F54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2F6E1-0AAB-48AC-98A5-65ADD0BA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FA145-697F-4BEC-A316-762D5402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A9DE8-ACEF-4BFF-84E3-B1FE808D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B5D90-E7E1-44BC-9DC1-27457B65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1EA4F-6B4F-4B4D-B8C0-642B1D1F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ED558-13D1-4CE6-9115-DC04DE67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AE6A-5D74-4160-A45A-89CBCF1AC45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D798-4510-48F1-BFBF-56BAC650D6C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BC9A-0A3E-4BAD-9A72-2BC83E5A36E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33D1-CF8F-45E4-AB25-83513B82A77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E0FE-FD16-4456-AD4C-B860D4B5C0A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ADF4-618A-48D3-A167-F336966A661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71D1-9DB6-4565-81CF-3A94EEA913C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5128-D7F6-4892-9035-A3BFB25D3E6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0A18-1829-4DFA-BC2C-6FF9B9FECB1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F959-1487-4DBC-BF57-A081E1CE281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7380-A7B1-4B06-8C12-F74494DC4E1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TCWS1.jpg"/>
          <p:cNvPicPr/>
          <p:nvPr/>
        </p:nvPicPr>
        <p:blipFill>
          <a:blip r:embed="rId1"/>
          <a:stretch/>
        </p:blipFill>
        <p:spPr>
          <a:xfrm>
            <a:off x="1471680" y="536400"/>
            <a:ext cx="62388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TCWS2.jpg"/>
          <p:cNvPicPr/>
          <p:nvPr/>
        </p:nvPicPr>
        <p:blipFill>
          <a:blip r:embed="rId1"/>
          <a:stretch/>
        </p:blipFill>
        <p:spPr>
          <a:xfrm>
            <a:off x="1428840" y="536400"/>
            <a:ext cx="6305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1"/>
          <a:stretch/>
        </p:blipFill>
        <p:spPr>
          <a:xfrm>
            <a:off x="1536840" y="536400"/>
            <a:ext cx="61070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577880" y="536400"/>
            <a:ext cx="60264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0:25:34Z</dcterms:created>
  <dc:creator>Mary Parker</dc:creator>
  <dc:description/>
  <dc:language>en-US</dc:language>
  <cp:lastModifiedBy>Mary Parker</cp:lastModifiedBy>
  <dcterms:modified xsi:type="dcterms:W3CDTF">2012-01-16T10:41:24Z</dcterms:modified>
  <cp:revision>3</cp:revision>
  <dc:subject/>
  <dc:title>PowerPoint Presentation</dc:title>
</cp:coreProperties>
</file>