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A0E5A-EE1F-47C6-95C0-141CFA74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A43F8-E894-4664-8828-D2901E79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8210E-F42E-4F45-AD5F-718539F9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94AC9-F544-49DA-A7C1-7FFE81C9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5C54F-075D-4D20-9A56-B7B4043B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7F5D3-B4B3-4EDA-A2A5-D088D8AB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4DB96-F775-41EF-9263-9F3514E4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CD91E-B39F-4E6B-AC1F-A29D299A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4509A-6F67-4041-9239-516FCF6D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CE60C-31AB-4C02-989B-E6ECAD25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6B3C5-D8DB-428B-9809-E2B70AE1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C7222-9FC1-40CE-9EB1-7D6BB4D8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791D6-E9D7-4F3C-84A3-4DEF1A7F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433ED-08A1-4E4A-94C9-7E97058D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6E5DE-C40B-497E-9904-30FDF902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1B705-C0C3-4969-A086-B778F284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06677-6AED-4872-9048-0A761964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FC419-589B-4009-A683-E9E56858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D3B78-EA78-4844-9935-A62FE38B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E0520-7CF5-4B74-BEAD-0E2364AD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F39BD-AEE8-4946-98F1-EE41A584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41314-D2CF-4E3D-BAD6-68BED09B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0700F-3080-46A8-B750-B0DF713F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B9250-12A4-485B-92EA-A3A569AD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06057-59EF-4DB6-B3DF-EB55C267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D434B-37D6-47B5-97AE-47C5F607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1BE15-7C90-444E-9FBF-3A005E00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96976-2699-435E-8513-F6F72599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5B643-AFE4-40B7-A919-AB0EAC50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CE86F-698E-4DCC-B091-FEB8FDC2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C923-EA44-4E60-93EC-9EB75F366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BFD33-8782-4327-80A5-BD9A51EF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FA056-3F5D-4BB6-8494-7F221BA2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0EC23-F747-4FF4-8970-6574C14F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74782-F76D-4362-9639-BC774D44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8E9A8-48C7-485A-A9B4-69302D65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DBCE5-17E1-44A9-8FCD-11264C0A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C469C-785B-4384-BF02-040D219C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897E0-D3CA-4F3C-8429-0D970B51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5CDB5-4706-4048-A5B8-28225D5A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3F3CE-11B3-4E2F-9DF2-A26CEB42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01C7-8396-4E8F-809D-6D02E41C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CB654-67CA-45C2-BB6E-C1476217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45B99-3A8B-44CC-BFCC-89551719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D3112-D7D3-4AD3-86E8-1639E435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BBB78-5A1D-4B45-9D61-633C7FA5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1B236-4E0D-4094-A0BE-BE0479F6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49B4-0656-43DB-8143-BB5CC9CC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C5DA-68AC-4F89-B07B-2591C330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6A45-4153-45BA-A017-02C88985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25FD-04DC-4AC0-A5B3-C46456C4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6531-BAD3-4C42-BD9A-7F6002D3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2B8A-019F-47C6-BEAB-E8A8EC16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1BD8-72D7-45F6-A848-70BFF580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B8CA-3E95-4ABF-87B9-029FA842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E982-1400-4743-AB74-ED353C71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CB26-2967-49A4-A765-6DADC0B2A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A535-6836-4CA7-9B65-30EBCE29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EE86-8C50-48FC-BE3A-E67ECF75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4784-3C8C-491E-9878-9CF310E1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8E31-96C0-4A02-BC40-75A61479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387E-8F46-46FF-9CD6-DA028676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D3EB-29A7-42EC-BF94-19409A92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EA25-0BB9-491A-BAAE-802DD8CC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82FE-D9FA-4C5F-B5F4-E7149CC4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F49C-2973-4CC7-BD0F-1ACBB1D8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390D-54F7-4932-BAD5-F5605D6B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765F-0347-4E3E-A2BC-6F4CC5DF1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44AE-0282-4C52-9421-AFBE66FE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B243F-1C02-436F-B690-40CAEAA1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1FB79-A161-441D-B765-AB85ECC8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6F63F-7FB3-4754-AFD3-17458697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85EC0-CADF-4ADE-9F39-175ED0D7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69D7B-1C2C-47B6-87B8-6EFC26BF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AF6F1-66C2-44B4-8CF5-A456FF48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4AA90-1D0B-43FF-86DF-155AEA77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C8814-539E-4A16-AAFA-53DFC8AC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9A76C-8E5B-426E-BEB3-FB0A2DAF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CBE61-B615-40F3-A413-43A86DF8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FFEE0-5674-4C20-8690-686F9A91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DE445-6E3F-4707-91A5-56E28044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ECA99-1934-4DC0-A941-8A07C58A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8F26A-9EED-4E84-A853-52D057C6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7385D-3A96-40ED-8C9C-91870F0B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F3CC9-CC27-4927-98AC-8C3A84A8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4E966-5565-4355-A450-2CBA4DFC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2B4C7-E5AD-4F72-B040-8366297D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70DEC-517B-49B2-A39D-1C75164F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D6780-848E-4AF6-BDB4-D422F78A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CF9F0-9CA1-4626-AFAD-146A08D9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20B11-CD2D-45E6-A4FF-CD20697B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E1573-1CAF-454A-9369-6D6E6297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58850-29AA-43D8-9209-0C9FAF67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0DE27-7C94-41DD-A818-F4DEE3FE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D4974-B45D-4B7F-8272-7C2C5186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575E6-086D-4091-AC61-1041D27D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5ED7A-1D13-4540-894F-65DE18A6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5D12C-9837-4260-AA06-BC85EC4A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78D62-B7C2-489D-A494-AF7F1F3D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E90EB-D636-4360-B9E1-EE6992F6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ACC89-1624-4535-A26A-32B45C2D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B726D-21A6-404E-A605-9C9A2895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059C9-4C1D-4FBD-B11C-85A8423D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69C81-D270-490E-A39B-0CF4720A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23C44-95AF-4751-8AD7-70C2173D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63050-F9B4-4135-AFE6-A0134E24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C9520-49CF-4EA7-8DF1-57400AAE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0E41E-DD68-4E37-8CE5-95D29E93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A6984-D23B-4823-9E54-6F81B1CF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3CFCC-A8B4-4682-8B04-E6C48320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5988A-5D3E-4D34-9562-8EEFAD10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BB538-B8CA-462D-A1C6-BACC8DC0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E2EDF-49AC-4A95-A429-F9873B72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5C845-6591-4BE6-96AA-0094A5D8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09D2A-1360-44A0-AE60-B1E1AEE0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9F250-9615-46D6-93AE-7CFB3039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983A0-5A03-4809-B6B8-DC976BE5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BFD28-0326-42F3-AA99-458E9BDB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CA46A-31E5-4E43-B935-054DC896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B6DD5-28A3-400D-873E-0FC89A6D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C9034-FAF2-43B5-B96C-D47CBCCD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C6C5A-2E5A-4300-93D8-851D5CB4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9BF55-5AE5-4D14-9BFB-C178C30C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69D70-3978-4639-8B6F-B8BC3431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B04B6-6A08-444C-968C-5A5132F5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E1607-1BE4-4A8F-BAB0-8E634931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3650E-3C30-4D7B-BCF2-79ABBFA3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35AE8-76E7-4E7A-BD1B-48AEB540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AB8B0-0204-4D09-82E7-79AC22AC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2B959-E71E-4494-A86C-659BEF2F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60FCC-A39E-49B5-B4B0-4E13B1F9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9AA27-CD00-4C47-9D34-92DF02EB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5E95-148C-4D56-ADD7-2F6B6E1705C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01DE-590B-4A24-A2C6-758ADC6DFB1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BD38-15FC-46B2-9462-CFADBFC8180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12AD-6453-42D2-B498-5EA096E8F4E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E7EE-C5B8-46EF-8E03-7B0838CC3D8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A504-A63F-4EF4-AB81-719EDA8C395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3563-6880-41F9-AD5B-9A5A6158945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B7C4-01AB-4DF0-B50B-AEA9A5388E2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A8B2-F701-423B-81BC-636F7296324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78C8-9F87-401D-AA7A-177CDB56242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A131-E5EC-4052-B243-F1602EBB065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609480" y="2214720"/>
            <a:ext cx="7961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895400" y="500040"/>
            <a:ext cx="53913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660240"/>
            <a:ext cx="57866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3786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\\genesis\Mission\Refocus\Refocus Images\ManWithBoard_Blue.png"/>
          <p:cNvPicPr/>
          <p:nvPr/>
        </p:nvPicPr>
        <p:blipFill>
          <a:blip r:embed="rId2"/>
          <a:stretch/>
        </p:blipFill>
        <p:spPr>
          <a:xfrm>
            <a:off x="357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\\genesis\Mission\Refocus\Refocus Images\ManWithBoard_Red.png"/>
          <p:cNvPicPr/>
          <p:nvPr/>
        </p:nvPicPr>
        <p:blipFill>
          <a:blip r:embed="rId3"/>
          <a:stretch/>
        </p:blipFill>
        <p:spPr>
          <a:xfrm>
            <a:off x="2286000" y="2500200"/>
            <a:ext cx="2982960" cy="3976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\\genesis\Mission\Refocus\Refocus Images\ManWithBoard_Green.png"/>
          <p:cNvPicPr/>
          <p:nvPr/>
        </p:nvPicPr>
        <p:blipFill>
          <a:blip r:embed="rId4"/>
          <a:stretch/>
        </p:blipFill>
        <p:spPr>
          <a:xfrm>
            <a:off x="5857920" y="2595600"/>
            <a:ext cx="29113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43:21Z</dcterms:modified>
  <cp:revision>10</cp:revision>
  <dc:subject/>
  <dc:title>PowerPoint Presentation</dc:title>
</cp:coreProperties>
</file>