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5E92C-464B-437D-9F49-C632D9EE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AC4B1-883E-43C3-9383-99DEB907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59CC7-F823-4038-AD40-ACC26C8B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EA636-60A6-42B3-BE19-D0D5C6F9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7D91A-93E7-4F48-8223-AF352F09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3AE9E-1D17-4D33-9323-58EE49B1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F24E8-E0C4-4679-BA96-C60260E4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D15C0-EDB5-4E63-BFE8-45897668F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59AB8-7F8B-41A2-9BA8-8386EE9B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ECB99-E293-40A4-8E6A-CFB88101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8BEC6-4FB9-43B5-975B-C52E1A8D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7ED3C-010E-4768-99F4-235200D8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93876-E199-43C8-879B-431AF7CA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300F7-46DD-4FC2-8A1A-96A6F287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CDC4A-7D6B-46B6-BEA5-4BEB46D2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62D69-A344-4491-BA73-5E84107E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4C9A2-9CEF-4867-8004-A24C92BC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0CA5D-5747-4798-A6EF-91406BE7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37F31-4A77-4064-9C8F-3A00E247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B3166-1BC5-40FB-8FA5-DCC0F8DD6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85F54-682F-4B54-985E-5583F4E2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72056-DAB3-4676-B9E4-FDB27895B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32318-C59F-41D8-9454-26C186BE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5CEFD0-E339-42F1-9070-3D74991A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EE5A08-ED4E-447A-A934-7B568B7B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63F68-DF5E-4F38-9033-38462844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A431B-1836-4462-BE9C-17842486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D24CC-4EBD-4851-9CE5-C91F41BD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9297B-869D-4405-B1E5-9B168628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3DFAB-BE04-40B1-B3DB-5A106BEF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61E8-0E98-4443-8DE7-39049DE56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2B195-E296-49FC-8DBA-EA608EC3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3212B-7B24-47E4-9BA7-689EE6236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E0504-36B9-40D2-AFE4-B46DB0BB6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32E49-9E6D-4179-A307-A792131E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7B069-AAA5-43F8-9B6A-2AE202B0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96954-78E4-4A16-82CC-73F200C1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EB3A7-9371-43FD-AB48-E8C46E68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4DDC3-9186-483B-A765-1D70DC50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504E7-CCE4-4034-B9DA-073E80FA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5369F-617A-492F-9EF0-DBE50C7C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9020-23BD-41E7-B31A-52F9A154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52307-A68A-4565-A20C-80A8150C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A3F50-3947-4873-B72C-0B31EE92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4075D-8539-40AC-A3EA-5E08A8EB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C6FBA-842C-40E5-BA20-5F3A0A46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96407-0C5B-4C62-ADF8-DEBE6E1D0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D9D0-A417-4B7C-AC2B-1C8849ED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BC7E-AF7D-4751-8375-E736B196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15E8-05AD-4B83-8D73-F8755D15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CAE5-0355-41E7-9863-2EA3F21F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478B-7F0E-49DA-982B-425940B0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B486-D390-4920-8B7B-FB7630F2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28C8-6531-4DE3-A8D5-A9455E88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1109-6FFF-45CD-8D67-41718E81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B8B7-0622-4111-862E-05CB05852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3D3D-137E-4E0C-B0D5-1575BC89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3167-956E-4E62-B63C-DA00B0CA0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DECE-0E53-4F4A-8C42-6C92B241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0C35-F24B-4B8D-A281-E74C7B1B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B97A-C337-4B4F-99B0-FE656641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1CE2-1319-4535-999F-75648E07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1D7D-1803-4F7B-AF9A-0686324C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DE0E-50AE-4311-876E-74943F2D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1588-70EB-4EDA-8860-C20FA66C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B7F1-848C-4627-9274-AB3552D9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B540-AC82-4F54-948E-4AC64434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F3DF-834C-4AF5-8CD5-E8A22688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4B89-23C1-43A8-B1D2-73D16431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5C4E5-B74B-4812-8625-A204EFCB4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A86D4-B9F8-4588-8EBF-5848CF4B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4FD5E-FB78-48AD-AF8D-C85BCA7A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29600-84B8-43C5-A63B-1358140A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029DB-7199-4336-92BE-44175201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406F5-B2ED-4E1F-A90D-7AD93646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0CEA3-ABD5-428F-9895-767AF99A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2FB99-C70B-4D2C-82C1-2D0790B3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6D4A9-6A9B-46FC-8CC8-AD97E608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3B6E4-63E9-4319-BAB1-2D09E6D2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9C5D4-7C9C-4DBD-8F78-BAD6315EF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3EEB4-ACFF-4F76-B8B5-2ED36510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C5EE5-14B4-4DF8-9CC2-802CACD3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38198-DA6E-4BF2-95DE-2C1FCC0A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9229D-A642-4C5E-A99B-1AF81282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3FBF0-8CE0-49C1-87A8-9F6B7512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CFACF-EBAB-460D-A714-0D3C92B0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4A7D6-1EB1-410F-80EA-65722F3B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7EECF-5982-4D51-A26B-28736D3B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5A86D-4F27-4536-807C-A749E42C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EA267-0406-4CC5-B186-72A63E03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746DF-3DF5-459F-8645-D60194E2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2F404-4E1D-4C74-BB50-F5A44E80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55A3B-047A-422D-BA4F-40962B805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85BA4-FEB2-49E4-AD53-EDAEEE3E2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C883A-D596-47A8-9D42-7428B031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7A39A-D12D-4818-8929-13E46FB3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754D0-4CF0-4D13-8AF2-DF5B34EF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103B2-8BC3-4BA6-B2A0-52768063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7702A-F537-4F89-8D3A-5B0CD8F1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D35B0-7C30-4C2F-844F-84506324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71788-EF4A-447C-B27E-E9E522D4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06AEE-D36F-4123-9B11-4D7E2675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A162A-731B-438D-9A3C-36B4DAC9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35E2A-025E-4CE5-A253-BFB6DEE0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C8B86-9978-46DF-915E-57FD9B10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0C339-A794-4071-8A3D-615851E5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681C7-63AD-482F-B4F0-70CCBDE0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5B065-E9DC-4690-BAD0-3A976722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65DCE-8B5E-4196-8BB5-735B52DE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64EC5-8A0C-405B-8ED1-DFFCBD5E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BD013-7388-49CA-BEB1-A1C02F6E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2412E-EDA7-4A7A-909A-B379A4B5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DFD37-16CE-48C1-AE2F-74D03133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23BF5-2002-49C3-9FAF-E813AB2B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FAC94-B4CE-41DE-927D-257A188F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51EFC-512F-466E-810D-20BE6D889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CD0C9-AA68-4798-BFAC-AB50948F3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512E3-CC21-44D8-B75B-C42DCCC2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101EB-1B9A-42A2-86E8-652AFD21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B6089-C78D-4D5E-9137-F4654DAB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B6D85-3A65-4DAE-90C2-AF276233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38AEB-048C-400E-AF4C-C2AB28DE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B17B6-E5AE-4059-9D06-48E0F3D9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F5225-519B-464E-A8E1-D42E2198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7F890-AF16-4AC7-84E1-FA8A8104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5EB12-C655-41E7-A89C-C9D8D9D6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E9D7A-A4EA-4AF3-B302-52302835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1BADE-CA95-42E6-95D5-AE50AF850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A3C71-4CD9-45BD-8E34-A191DCC2D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83ABF-8229-4C75-9544-FE847C09C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3610A-9C8A-47EE-B8E5-B2073D23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6A7B0-2D4F-4FE0-BD98-73F0E243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5E61-2948-4494-B952-0A3CEC1C1E4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7022-9B71-4A60-B30B-241376A2059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318F-974E-408A-9CE6-1E8AE4D90D1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B568-0DCD-401E-BEE9-44F89270C9D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56DA-326C-47DC-BC93-10648F9C36F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1EC6-130D-4647-AAFB-2F8F658DD6C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9720-695E-4065-A851-66EDAFF7632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ADE8-9A5F-4B78-82EC-DD647FA742A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6D35-405F-4706-95F7-9F6852E7841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DC52-1B56-40BC-8CBA-F08F8711F00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6488-BAC2-4712-BA6B-A75B8868B58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844640"/>
            <a:ext cx="7856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Relational Factor: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He says count conversations, not just conver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2 The Narrative Factor: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ir story; share your story; share God’s story; not just propositions or formu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395280" y="184464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3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Communal Factor: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xpect conversion to normally occur in the context of authentic Christian community, not just in the context of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4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Journey Factor:     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o see disciple-making as a holistic process and unending journey, not just a conversion ev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5"/>
          <p:cNvSpPr/>
          <p:nvPr/>
        </p:nvSpPr>
        <p:spPr>
          <a:xfrm>
            <a:off x="395280" y="1844640"/>
            <a:ext cx="7856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Holy Spirit Factor: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lieve that God is at work ‘out there’ in everyone, not just ‘in here’ in the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6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Learning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part of your own discipleship – not just the other person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5"/>
          <p:cNvSpPr/>
          <p:nvPr/>
        </p:nvSpPr>
        <p:spPr>
          <a:xfrm>
            <a:off x="395280" y="1844640"/>
            <a:ext cx="785664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Missional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recruiting people for God’s mission on earth and not just people for hea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99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8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Service Factor: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one facet of our identity as servants to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24Z</dcterms:modified>
  <cp:revision>15</cp:revision>
  <dc:subject/>
  <dc:title>PowerPoint Presentation</dc:title>
</cp:coreProperties>
</file>