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F4AE6D-CD74-4A00-A731-921957E8E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35BA7B-AAB3-4AE4-B0F4-005234BED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029F2A-AF7F-4E2A-8208-544922E9C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BF0E7E-F0BC-473B-BF6A-18143C137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3566BB-5D26-459E-B0ED-CA155CFB1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4F6ED4-CC86-48FC-BA0E-17C0AC976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ABC640-C8CB-449E-A654-3B95C9CC7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93856D-3C2E-47E2-BF78-FFA48E142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53BAF5-809C-44CA-BD04-772B86D5C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E081FD-1BF9-424C-B46C-BF3A4547E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9EEC6B-EA71-4BFB-8482-FA021A07D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5E2406-A054-44C2-8220-D8D68A0F7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18157E-D11E-4F11-B942-633F1ACE0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D8F460-A0BD-4627-8869-FD5F6D992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13611E-157F-4A4D-B28B-B3C1019C0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656462-1EA6-4BD8-9160-F3EBC31CF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9365B7-CCFD-4E03-8443-C51EA1A41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F80E93-E797-40B2-BF8A-5E51BDCF8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9B8D47-66B6-44A1-B900-323BB0403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AE32CC-BCA5-457B-82F6-4DD90AB66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A42000-AEFD-4717-A607-760B650BC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451457-73D7-4B74-B62A-6A1E90728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9469D7-8D5F-4CF9-BFBE-057BAE18F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78040D-5AEE-4834-96C5-2535CFB7B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6492D2-C9B9-4566-BD41-8F5E5E998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2B0154-2B6E-4BD3-8978-DDA42A7A5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6914F1-67A5-406F-96DA-98F603CDC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3B24D4-98F8-4D1B-BC7C-070466F2C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39E2EF-EA96-4B33-AD25-B79680C4D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8737BE-F0DD-463A-81DF-F70CC7A88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98E0-202E-47F1-8F0D-EFA327689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B2B1E6-FDF5-419B-ACBE-6C5318B9A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C754E4-34EF-42A7-A93B-FEA64EB06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0AB5D9-993F-4C55-8914-04EE46C21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A6E964-6B2E-4DB4-9860-C5B9BBB37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70636D-F3BC-4F3F-89D1-5145E3ABB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4E8DA9-43B1-4E20-9D29-9D8244A9A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230E48-2865-426B-A69C-D7DAC644B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8ACC86-CD07-4648-93D2-A3708DF56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35344E-A832-4AF2-8A54-5F3686D28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673ECE-29AA-4540-BDD0-D065130B3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46E1-9869-4061-85EF-E28FABE20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363890-2019-48B2-BEC9-02ACA07EC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AE35CA-5304-4F53-AAEE-733D7D369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ECB616-1E5F-4E3A-A559-E0B5DD6ED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8972E6-1747-4DD8-B801-AB7793093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174BE4-9ED7-44DC-9D37-7E1E338C2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3033-734C-4F17-8C32-A84F79B0E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7935-35DB-470B-BB69-438B0D38D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0735-1EDF-434B-84F6-7B76E4818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824F-A565-408C-9917-ECBC52ACA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2D96-40FF-4A28-8D48-CD3DF6CB1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342F-4C91-4C80-9ED4-A7BB62F4E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45B4-DC45-4EF7-A622-59AE3F014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B3B6-C4CB-41F7-B388-5D8D3F37B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173A-2F22-400B-BEBC-5130F65EA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6693-2625-4DFA-BB66-9FA96855E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06DE2-7D44-41D2-A4D2-E8F3754C2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6A5A1-29E3-4766-A864-57895FC95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E19F0-2B9A-46E6-A2BD-F00430A21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8704B-1D40-4BC1-99C3-807FC6DAE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A8E68-B402-46BD-B0C2-6A71E0A3F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78E7F-955B-4BF7-9BA8-FDE626447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5B5E4-3DC9-48DA-AC42-245CB660D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A8335-06CB-45FC-AB53-79767E056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A79C9-DDFD-48CB-90E6-883D195B9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BBB05-B58A-43CC-B9BE-97BD9E9B1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5A66E-256F-49F7-825C-D897C8634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EC767-898D-40C9-935A-342063AE2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3A33E8-445B-4AB8-82E9-F293DD39F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B36C7B-BF26-4B23-BAF2-E4D5FF409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0B7061-5C8E-4530-9000-BDC9E4FC7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5F6DAB-5A3A-48CA-8030-A2D1D4338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60FD21-AED8-4A97-B54C-92850D25E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7C9EAD-B85E-4825-ACC4-EC14CB7FA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5E0419-E572-4AE7-A05B-A1DAC247A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86277C-DD84-4443-A4FB-33784A0CC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6C5F0E-A9E9-4F16-89C6-E98F16D6D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C4CC44-D6E5-4B57-93A8-EAE44A6C3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D0CB3E-DCD0-4605-A66E-F3E8386A2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2A779E-F34C-4F45-9265-4CFA58059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1442E0-D6B5-4BEB-8F2D-CC7606FE2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C9B6E5-1F15-4C09-856A-2C311BCE2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0077CB-8D2C-4D5B-B078-2FE4AAADC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1EF83D-713E-4C2D-89EA-49883A9C6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DB5437-09F6-4B1E-A02A-03D123479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B2266B-10EC-4EF9-B9DF-238A60E07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B8B7CA-8DF5-4FCE-AD89-9D84CD3B0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A26B3D-5626-46CF-9464-C9BACEC62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26A875-3B17-4BE6-A9C9-27C5E7A76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A9FED4-D667-4660-B72A-3F32BEBCF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B78CA5-DDA4-4ADC-8A95-96C5B9835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D8512B-C68A-4E23-ADF0-CC57F5F54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0ECE88-B5A2-4DA7-88D8-1B1868D24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5A7872-10FF-4973-A023-77DFB296C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A567EC-AB13-4835-A6FF-0A0EFA5C7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FCB1F4-4E24-4D58-97B2-D362BF303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6BC73A-FCBB-40DC-8D87-8903FB357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E7F505-9597-427F-BB4D-B52ADEE76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2A793D-9AF5-4F2A-BAC3-9E90FF54F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64A739-C829-432A-B686-2C2BC0F82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2569E3-9D26-4F22-A8FB-5EF4F2609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314E13-1FF7-4487-9189-B8FD81001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748FCE-3A05-448C-B4B9-9F0BB6B4B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83743F-B196-4ADD-B8C1-37F44325F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A23A6E-68E9-40B6-B388-7B42AB92A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975548-7C4D-4E4E-B8B2-57E3699B5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04A489-60D7-4C0F-85E7-5BA1BC644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9D9298-BC43-483C-94C0-28C0B73B7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898205-D2B9-4E33-9785-864D214D8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9570F6-9C53-4A48-AD1A-3C8DE800C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004444-37BC-4994-AF8D-277EFD99B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79A643-F0B3-42E7-AE77-9BA367EA0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D4F7F4-E943-4B51-893A-E7915B5CC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FEF31A-9626-4023-BFFA-071BD5BF4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10B471-9A10-407F-8224-AFF9684CD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25BBD4-B4B9-438F-9BA5-FDCB95B69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41DCD2-4096-4649-BE4E-580AFC1BD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A1E675-D05F-42B0-A48F-D8AB8C9D2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299E91-EB5A-406F-9170-4C89FCCDD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6FE822-2C57-4651-A718-82E363B54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2C18DA-A43B-4216-A9E3-410C01BCF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017A1B-7590-44A8-BD5F-97856874E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7DB608-341C-4CF9-800F-201DB964D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45E79F-425C-46EF-90EA-53CD19C8D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11FE4B-E64B-46EA-A673-288A351F6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2E1759-63DC-4619-AEB2-DDCD2B6F4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34EC51-A529-4CCE-8EFA-58C379E27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FBE94B-100A-478A-A360-26386ADB7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FF7FB2-60BC-494F-A1B1-FB30D3FAA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6473D5-8AA0-42EE-B13F-ACCC06C11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2EF2E7-5F72-41C1-B8A6-760DDE2B8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7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341D8-2003-4390-9B8B-2DB58BCB0800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2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6A999-37C8-40E2-819B-66C2E868C528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6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AD402-DFE0-4019-9AB4-4C2179D5FD09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D940A-022B-4795-98C9-4BA03F6A65F0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8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5E855-C231-44E2-B9B0-074EF3D49E2E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2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012B2-4819-4C24-A10B-75A46E69CBF5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6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A3956-9F01-4982-87B5-F0979BBD3CF8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1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3B160-79CB-42CE-84FE-512DB4A5747F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5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61481-273E-44A8-A160-C43C8B7B38D5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95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E12A3-C578-48F8-8500-C8BA60AFBD85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3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3471F-4A4F-4576-8003-4A2A8B315DBA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TextBox 3"/>
          <p:cNvSpPr/>
          <p:nvPr/>
        </p:nvSpPr>
        <p:spPr>
          <a:xfrm>
            <a:off x="0" y="54936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ahoma"/>
                <a:ea typeface="Tahoma"/>
              </a:rPr>
              <a:t>Re-imagining the Church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  <a:ea typeface="Tahoma"/>
              </a:rPr>
              <a:t>(Nehemiah 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TextBox 5"/>
          <p:cNvSpPr/>
          <p:nvPr/>
        </p:nvSpPr>
        <p:spPr>
          <a:xfrm>
            <a:off x="395280" y="1916280"/>
            <a:ext cx="8353440" cy="56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Lessons from a Great Leader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1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Listen to the voice and heart of G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2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Establish a clear sense of purpo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3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Develop a practical strategy for                    achieving his purpo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4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Action - individual steps enabled his purpo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5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5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5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4T07:25:14Z</dcterms:created>
  <dc:creator>CHRIS BROCKWAY</dc:creator>
  <dc:description/>
  <dc:language>en-US</dc:language>
  <cp:lastModifiedBy>Mary Parker</cp:lastModifiedBy>
  <dcterms:modified xsi:type="dcterms:W3CDTF">2012-01-16T12:51:38Z</dcterms:modified>
  <cp:revision>12</cp:revision>
  <dc:subject/>
  <dc:title>PowerPoint Presentation</dc:title>
</cp:coreProperties>
</file>